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4E78-6814-40AE-B9E2-70E50C8C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C903-E080-4793-B4FE-222EE06A3E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2143080" y="69372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12E-BE63-4AC5-B6DE-2A42B59C03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1209600" y="69372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7731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7731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731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hallaweb.jlab.org/dvcslog/E06007/080928_130311/emiss_pmiss_carbon_lead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ulse Approximation limitations to the (e,e'p) reaction on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08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b: search for long range correlations at high missing moment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Juan Carlos Cornejo                      Joaquin Lopez Herraiz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(Cal. State Univ., Los Angeles)        (U. Comp. de Madrid)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exandre Camsonne  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(Jefferson Lab)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the Hall A collaboration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ad data 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MIS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RESOLUTION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2895480" y="1617840"/>
            <a:ext cx="5600880" cy="472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arbon_plot"/>
          <p:cNvPicPr/>
          <p:nvPr/>
        </p:nvPicPr>
        <p:blipFill>
          <a:blip r:embed="rId2"/>
          <a:srcRect l="52070" t="61081" r="24887" b="31006"/>
          <a:stretch/>
        </p:blipFill>
        <p:spPr>
          <a:xfrm>
            <a:off x="380880" y="3276720"/>
            <a:ext cx="2057400" cy="914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80880" y="762120"/>
            <a:ext cx="876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 data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OLUTION (Pmiss=[-100,100] 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80" y="-127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MIS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RESOLUTION (Pmiss=[280,380] MeV/c)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20120" cy="525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arbon_plot"/>
          <p:cNvPicPr/>
          <p:nvPr/>
        </p:nvPicPr>
        <p:blipFill>
          <a:blip r:embed="rId2"/>
          <a:srcRect l="52070" t="61081" r="24887" b="31006"/>
          <a:stretch/>
        </p:blipFill>
        <p:spPr>
          <a:xfrm>
            <a:off x="2286000" y="2133720"/>
            <a:ext cx="2057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149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08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b(e,e’p) (Valence shells) CROSS-SEC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4674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liminary results on C are in good agreement with data and calculations this gives a good cross check Pb (ee’)p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nalizing the data analysis and corrections to have final systematics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in our current error bars standard long range correlation seems to be ruled ou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752480"/>
            <a:ext cx="5181480" cy="4092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349200" y="1066680"/>
            <a:ext cx="87948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Shell model (mean field) calculations: the shape of the cross-section is well described, but the measured spectroscopic factors are below the mean field prediction. How large/small must be the spectrocopic facto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257800" y="2819520"/>
            <a:ext cx="38862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Verdana"/>
                <a:ea typeface="DejaVu LGC Sans"/>
              </a:rPr>
              <a:t>About 30% depletion is observed for states near the Fermi level. This cannot be explained only with short-range correl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Verdana"/>
                <a:ea typeface="DejaVu LGC Sans"/>
              </a:rPr>
              <a:t>Shape at moderate p</a:t>
            </a:r>
            <a:r>
              <a:rPr b="1" i="1" lang="en-GB" sz="1500" spc="-1" strike="noStrike" baseline="-25000">
                <a:solidFill>
                  <a:srgbClr val="000000"/>
                </a:solidFill>
                <a:latin typeface="Verdana"/>
                <a:ea typeface="DejaVu LGC Sans"/>
              </a:rPr>
              <a:t>m</a:t>
            </a:r>
            <a:r>
              <a:rPr b="1" i="1" lang="en-GB" sz="1500" spc="-1" strike="noStrike">
                <a:solidFill>
                  <a:srgbClr val="000000"/>
                </a:solidFill>
                <a:latin typeface="Verdana"/>
                <a:ea typeface="DejaVu LGC Sans"/>
              </a:rPr>
              <a:t> and parallel kinematics is well understo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Verdana"/>
                <a:ea typeface="DejaVu LGC Sans"/>
              </a:rPr>
              <a:t>Long range correlations are predicted to be visible at large p</a:t>
            </a:r>
            <a:r>
              <a:rPr b="1" i="1" lang="en-GB" sz="1500" spc="-1" strike="noStrike" baseline="-25000">
                <a:solidFill>
                  <a:srgbClr val="000000"/>
                </a:solidFill>
                <a:latin typeface="Verdana"/>
                <a:ea typeface="DejaVu LGC Sans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845820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ysics motiva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06-007  experiment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08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b(ee’)p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of 2 Hall A High Resolution Spectrometer to detect the scattered electron and proton in coincidenc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DejaVu LGC Sans"/>
              </a:rPr>
              <a:t>Scattered electron beam energy = 2216 MeV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DejaVu LGC Sans"/>
              </a:rPr>
              <a:t>Need stable good resolution beam: keep beam vertical distribution &lt; 100 um and beam energy spread  less than 3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DejaVu LGC Sans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DejaVu LGC Sans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DejaVu LGC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DejaVu LGC Sans"/>
              </a:rPr>
              <a:t>Diamond/lead/diamond sandwich cryogenic target for high beam currents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DejaVu LGC Sans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DejaVu LGC Sans"/>
              </a:rPr>
              <a:t>0.2mm thick lead + 0.3mm diamon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06-007  experiment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08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b(ee’)p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14400" y="990720"/>
          <a:ext cx="7696080" cy="5181480"/>
        </p:xfrm>
        <a:graphic>
          <a:graphicData uri="http://schemas.openxmlformats.org/drawingml/2006/table">
            <a:tbl>
              <a:tblPr/>
              <a:tblGrid>
                <a:gridCol w="855720"/>
                <a:gridCol w="853920"/>
                <a:gridCol w="855720"/>
                <a:gridCol w="855720"/>
                <a:gridCol w="853920"/>
                <a:gridCol w="855720"/>
                <a:gridCol w="855720"/>
                <a:gridCol w="853920"/>
                <a:gridCol w="855720"/>
              </a:tblGrid>
              <a:tr h="51264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ema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q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[GeV/c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mbria"/>
                        </a:rPr>
                        <a:t>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[GeV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ω</a:t>
                      </a:r>
                      <a:br>
                        <a:rPr sz="1400"/>
                      </a:b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[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eV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mbria"/>
                        </a:rPr>
                        <a:t>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[GeV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θ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mbria"/>
                        </a:rPr>
                        <a:t>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[degrees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mbria"/>
                        </a:rPr>
                        <a:t>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[GeV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θ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mbria"/>
                        </a:rPr>
                        <a:t>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[degrees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ff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mbria"/>
                        </a:rPr>
                        <a:t>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[GeV/c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ff"/>
                    </a:solidFill>
                  </a:tcPr>
                </a:tc>
              </a:tr>
              <a:tr h="35892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5856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9.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892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8.3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036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5.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5856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2.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5892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1.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892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6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036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7.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5856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0.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5892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3.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856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4.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036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0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3.8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58920"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n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9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7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5.9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0880" rIns="20880" tIns="20880" bIns="20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0880" marR="2088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06-007  experiment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08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b(ee’)p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xtract th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208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b(ee’)p crossection as a fonction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900080"/>
            <a:ext cx="5791320" cy="4084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914400" y="5867280"/>
            <a:ext cx="4648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spcBef>
                <a:spcPts val="1026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0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b(e,e’p)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07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l(all 5 sh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553080" y="3124080"/>
            <a:ext cx="228600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spcBef>
                <a:spcPts val="1026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ith cor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629400" y="4191120"/>
            <a:ext cx="213372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spcBef>
                <a:spcPts val="1026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ithout cor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 flipH="1">
            <a:off x="5410080" y="3809880"/>
            <a:ext cx="1123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5409720" y="46483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553080" y="1905120"/>
            <a:ext cx="3200400" cy="8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spcBef>
                <a:spcPts val="1026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gh p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predictions are robust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272360" y="1467000"/>
            <a:ext cx="12985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spcBef>
                <a:spcPts val="1026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6840" y="148104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rbon results for calibration and crosscheck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(ee’)p dat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carbon_plot"/>
          <p:cNvPicPr/>
          <p:nvPr/>
        </p:nvPicPr>
        <p:blipFill>
          <a:blip r:embed="rId1"/>
          <a:srcRect l="0" t="53878" r="12937" b="0"/>
          <a:stretch/>
        </p:blipFill>
        <p:spPr>
          <a:xfrm>
            <a:off x="2209680" y="1981080"/>
            <a:ext cx="59612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2C(e,e’p) (p-shell) REDUCED CROSS-SECTION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6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1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PENDENCE of the SPECTROSCOPIC FACT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77320" cy="236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3810240" cy="2709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5" name="Text Box 7"/>
          <p:cNvSpPr/>
          <p:nvPr/>
        </p:nvSpPr>
        <p:spPr>
          <a:xfrm>
            <a:off x="4648320" y="3505320"/>
            <a:ext cx="3429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ross-section for the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hell in duced 12C(e,e’p) are independent of 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5257800" y="5105520"/>
            <a:ext cx="3047760" cy="1015920"/>
            <a:chOff x="5257800" y="5105520"/>
            <a:chExt cx="3047760" cy="1015920"/>
          </a:xfrm>
        </p:grpSpPr>
        <p:sp>
          <p:nvSpPr>
            <p:cNvPr id="77" name="Line 8"/>
            <p:cNvSpPr/>
            <p:nvPr/>
          </p:nvSpPr>
          <p:spPr>
            <a:xfrm>
              <a:off x="5257800" y="527544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9"/>
            <p:cNvSpPr/>
            <p:nvPr/>
          </p:nvSpPr>
          <p:spPr>
            <a:xfrm>
              <a:off x="5257800" y="58672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10"/>
            <p:cNvSpPr/>
            <p:nvPr/>
          </p:nvSpPr>
          <p:spPr>
            <a:xfrm>
              <a:off x="5715000" y="5105520"/>
              <a:ext cx="2590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IM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01640" y="5640480"/>
            <a:ext cx="8086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P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  <a:ea typeface="DejaVu LGC Sans"/>
              </a:rPr>
              <a:t>mi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 vs E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  <a:ea typeface="DejaVu LGC Sans"/>
              </a:rPr>
              <a:t>mi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 for the kin01 ( p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  <a:ea typeface="DejaVu LGC Sans"/>
              </a:rPr>
              <a:t>mi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 = 0, nominal) s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08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b(e,e’p) dat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5">
            <a:hlinkClick r:id="rId1"/>
          </p:cNvPr>
          <p:cNvSpPr/>
          <p:nvPr/>
        </p:nvSpPr>
        <p:spPr>
          <a:xfrm>
            <a:off x="141120" y="-25092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emiss_pmiss_carbon_lead_gif.png"/>
          <p:cNvPicPr/>
          <p:nvPr/>
        </p:nvPicPr>
        <p:blipFill>
          <a:blip r:embed="rId2"/>
          <a:stretch/>
        </p:blipFill>
        <p:spPr>
          <a:xfrm>
            <a:off x="3276720" y="914400"/>
            <a:ext cx="5014800" cy="4586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304920" y="1523880"/>
            <a:ext cx="2361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section as function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ion of individual excitation states for some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8:40:43Z</dcterms:created>
  <dc:creator>Shannan Kyte</dc:creator>
  <dc:description/>
  <dc:language>en-US</dc:language>
  <cp:lastModifiedBy>Alexandre Camsonne</cp:lastModifiedBy>
  <dcterms:modified xsi:type="dcterms:W3CDTF">2009-05-03T14:57:53Z</dcterms:modified>
  <cp:revision>17</cp:revision>
  <dc:subject/>
  <dc:title>Slide 1</dc:title>
</cp:coreProperties>
</file>