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1BD-9866-48B9-8246-659E6C63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2CB-DD7C-4013-84BC-30A2067B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3E1-BFE1-49AD-86D0-DBE4B927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D6D-1AF0-45B4-8072-DA202A60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723-819E-43BA-BF23-889D6BAD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5A0-745A-476A-A231-50FF8467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D61-8AD2-4983-A27A-6BE0C5C8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082-3C91-4621-BFC1-4D5D2730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71B-BBD2-497E-B8E2-5775D50D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B82-CAE4-469E-9780-5B999B4E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E03-DC82-4B35-A142-82361159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8D4-44FC-4A59-83A0-2B5A0FC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B52B-D87A-498B-8FA6-B2998E8A4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3300"/>
                </a:solidFill>
                <a:latin typeface="Arial"/>
              </a:rPr>
              <a:t>Spectrometer optics studies and target development for the 208Pb(e,e’p) experiment in Hall A at Jefferson Lab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UIDO M. URCIUOLI, INFN, Roma, Ital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UAN CARLOS CORNEJO, Cal. State Univ., Los Ange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OAQUIN LOPEZ HERRAIZ, Univ. Complutense de Madri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EFFERSON LAB HALL A COLLABO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209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ETHOD TO IMPROVE THE OPTIC DATA BASE:</a:t>
            </a:r>
            <a:br>
              <a:rPr sz="1800"/>
            </a:b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 optical data base means a matrix T that transforms the focal plane coordinates i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attering coordinates:</a:t>
            </a:r>
            <a:br>
              <a:rPr sz="1600"/>
            </a:b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003640" y="1628640"/>
                <a:ext cx="630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64000" y="1700280"/>
                <a:ext cx="657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40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0" y="360"/>
            <a:ext cx="9144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16000" y="1938240"/>
                <a:ext cx="1440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708280"/>
            <a:ext cx="72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 change a data base means to find a new matrix T’ that gives a new set of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57200" y="3528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84360" y="3316320"/>
                <a:ext cx="3024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8436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042920" y="4149720"/>
                <a:ext cx="1152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74640" y="35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0" y="41486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ecau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4220640"/>
            <a:ext cx="58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is perfectly equivalent to find a matrix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920000" y="4221000"/>
                <a:ext cx="12240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2728800" y="35236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33915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33915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1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0" y="33915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84360" y="4508640"/>
                <a:ext cx="2519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9600" y="5373000"/>
            <a:ext cx="44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work only with scattering coordinates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474360" y="4957560"/>
            <a:ext cx="3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00" y="594936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F you simpl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ind T’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708360" y="6165720"/>
                <a:ext cx="15843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339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ETHOD TO IMPROVE THE OPTIC DATA BASE 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xpressing: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059280" y="907920"/>
                <a:ext cx="1439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34928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556000" y="1390680"/>
                <a:ext cx="2303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δF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539640" y="1413000"/>
            <a:ext cx="10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You ha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989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st consider as an example the change in the momentum DP because of the change in the data base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2606760"/>
                <a:ext cx="73454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t xml:space="preserve">δF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440" y="34106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8428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0240" y="328356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polynomial expression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715920"/>
            <a:ext cx="74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cause of the change DP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P’ also the missing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371556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ll change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0" y="4292640"/>
                <a:ext cx="9109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is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mis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mis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∂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miss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δ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mis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080" y="5084280"/>
            <a:ext cx="74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this way to optimize a data base you have just to find empirically a polynom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380360" y="5084640"/>
                <a:ext cx="12952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-248400" y="5373720"/>
            <a:ext cx="780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scattering coordinates that added to the missing energy improves its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5734080"/>
                <a:ext cx="23036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miss</m:t>
                        </m:r>
                        <m:r>
                          <m:t xml:space="preserve">'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miss</m:t>
                        </m:r>
                      </m:num>
                      <m:den>
                        <m:r>
                          <m:t xml:space="preserve">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miss</m:t>
                            </m:r>
                          </m:num>
                          <m:den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440" y="360144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950080"/>
            <a:ext cx="218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finally to calcu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64000" y="3716280"/>
                <a:ext cx="863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is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40" y="337284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11280" y="3284640"/>
                <a:ext cx="14396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9640" y="5589720"/>
                <a:ext cx="4981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116000" y="6165720"/>
                <a:ext cx="4981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∗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95280" y="-167040"/>
            <a:ext cx="6553080" cy="62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An example: Hypernuclear spectroscopy experiment</a:t>
            </a:r>
            <a:r>
              <a:rPr b="0" lang="en-GB" sz="20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bbe0e3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bbe0e3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bbe0e3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bbe0e3"/>
                </a:solidFill>
                <a:latin typeface="Arial"/>
                <a:ea typeface="Times New Roman"/>
              </a:rPr>
              <a:t>(E94-1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 Λ electroproduction on proton (e + p -&gt; e’ + K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Λ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citation energy  appeared a function of the secondary electron and Kaon scattering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Exictation energy  = Constant + P</a:t>
            </a:r>
            <a:r>
              <a:rPr b="1" lang="en-GB" sz="1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(DP</a:t>
            </a:r>
            <a:r>
              <a:rPr b="1" lang="en-GB" sz="1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e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, θ</a:t>
            </a:r>
            <a:r>
              <a:rPr b="1" lang="en-GB" sz="1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e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, φ</a:t>
            </a:r>
            <a:r>
              <a:rPr b="1" lang="en-GB" sz="1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e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, Y</a:t>
            </a:r>
            <a:r>
              <a:rPr b="1" lang="en-GB" sz="1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e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)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+ P</a:t>
            </a:r>
            <a:r>
              <a:rPr b="1" lang="en-GB" sz="1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(DP</a:t>
            </a:r>
            <a:r>
              <a:rPr b="1" lang="en-GB" sz="1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k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, θ</a:t>
            </a:r>
            <a:r>
              <a:rPr b="1" lang="en-GB" sz="1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k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, φ</a:t>
            </a:r>
            <a:r>
              <a:rPr b="1" lang="en-GB" sz="1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k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, Y</a:t>
            </a:r>
            <a:r>
              <a:rPr b="1" lang="en-GB" sz="1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k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th P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DP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θ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φ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Y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+ P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DP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θ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φ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Y</a:t>
            </a:r>
            <a:r>
              <a:rPr b="0" lang="en-GB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are polynomials of the scattered electron and kaon moment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good data base should of course get rid of this unphysical behavi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straightforward to find the correct data base becaus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Excitation energy (New data base) </a:t>
            </a:r>
            <a:r>
              <a:rPr b="1" lang="en-GB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=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Excitation energy (Old data base) – 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 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M = - P</a:t>
            </a:r>
            <a:r>
              <a:rPr b="1" lang="en-GB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P</a:t>
            </a:r>
            <a:r>
              <a:rPr b="1" lang="en-GB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θ</a:t>
            </a:r>
            <a:r>
              <a:rPr b="1" lang="en-GB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φ</a:t>
            </a:r>
            <a:r>
              <a:rPr b="1" lang="en-GB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Y</a:t>
            </a:r>
            <a:r>
              <a:rPr b="1" lang="en-GB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- P</a:t>
            </a:r>
            <a:r>
              <a:rPr b="1" lang="en-GB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P</a:t>
            </a:r>
            <a:r>
              <a:rPr b="1" lang="en-GB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θ</a:t>
            </a:r>
            <a:r>
              <a:rPr b="1" lang="en-GB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φ</a:t>
            </a:r>
            <a:r>
              <a:rPr b="1" lang="en-GB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Y</a:t>
            </a:r>
            <a:r>
              <a:rPr b="1" lang="en-GB" sz="1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en-GB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right data base should produce the changes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Pe),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θe)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φe)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Ye)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DPk)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θk)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φk)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(Yk) for whi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7080" y="5758560"/>
            <a:ext cx="59461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2735280" cy="2113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981000"/>
            <a:ext cx="2663640" cy="2059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26920" y="765000"/>
            <a:ext cx="16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5600" y="83664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roved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2449800" cy="1892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716360" y="3068640"/>
            <a:ext cx="2376720" cy="183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94880" y="3645000"/>
            <a:ext cx="116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gh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4859280" y="4869000"/>
            <a:ext cx="2303640" cy="1779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637080" y="54450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f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900000" y="5084640"/>
            <a:ext cx="2160720" cy="1555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 rot="10800000">
            <a:off x="3277800" y="1698120"/>
            <a:ext cx="12970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(e,e’p)</a:t>
            </a:r>
            <a:r>
              <a:rPr b="0" lang="it-IT" sz="14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issing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bout 1 MeV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26028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be0e3"/>
                </a:solidFill>
                <a:latin typeface="Arial"/>
              </a:rPr>
              <a:t>Optimization </a:t>
            </a:r>
            <a:r>
              <a:rPr b="0" lang="it-IT" sz="1800" spc="-1" strike="noStrike">
                <a:solidFill>
                  <a:srgbClr val="bbe0e3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472000" cy="51595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6872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EBAF and Hall A at J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627280" y="1989000"/>
            <a:ext cx="289080" cy="1440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59280" y="1460520"/>
            <a:ext cx="1800000" cy="2400120"/>
            <a:chOff x="3059280" y="1460520"/>
            <a:chExt cx="1800000" cy="2400120"/>
          </a:xfrm>
        </p:grpSpPr>
        <p:sp>
          <p:nvSpPr>
            <p:cNvPr id="46" name=""/>
            <p:cNvSpPr/>
            <p:nvPr/>
          </p:nvSpPr>
          <p:spPr>
            <a:xfrm>
              <a:off x="4572000" y="1844640"/>
              <a:ext cx="287280" cy="1297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59280" y="3429000"/>
              <a:ext cx="1800000" cy="431640"/>
            </a:xfrm>
            <a:custGeom>
              <a:avLst/>
              <a:gdLst/>
              <a:ahLst/>
              <a:rect l="l" t="t" r="r" b="b"/>
              <a:pathLst>
                <a:path w="1134" h="272">
                  <a:moveTo>
                    <a:pt x="1134" y="0"/>
                  </a:moveTo>
                  <a:cubicBezTo>
                    <a:pt x="1058" y="68"/>
                    <a:pt x="983" y="136"/>
                    <a:pt x="862" y="181"/>
                  </a:cubicBezTo>
                  <a:cubicBezTo>
                    <a:pt x="741" y="226"/>
                    <a:pt x="553" y="272"/>
                    <a:pt x="409" y="272"/>
                  </a:cubicBezTo>
                  <a:cubicBezTo>
                    <a:pt x="265" y="272"/>
                    <a:pt x="106" y="219"/>
                    <a:pt x="0" y="18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59280" y="1460520"/>
              <a:ext cx="1296720" cy="312840"/>
            </a:xfrm>
            <a:custGeom>
              <a:avLst/>
              <a:gdLst/>
              <a:ahLst/>
              <a:rect l="l" t="t" r="r" b="b"/>
              <a:pathLst>
                <a:path w="817" h="197">
                  <a:moveTo>
                    <a:pt x="0" y="197"/>
                  </a:moveTo>
                  <a:cubicBezTo>
                    <a:pt x="19" y="166"/>
                    <a:pt x="38" y="136"/>
                    <a:pt x="91" y="106"/>
                  </a:cubicBezTo>
                  <a:cubicBezTo>
                    <a:pt x="144" y="76"/>
                    <a:pt x="227" y="30"/>
                    <a:pt x="318" y="15"/>
                  </a:cubicBezTo>
                  <a:cubicBezTo>
                    <a:pt x="409" y="0"/>
                    <a:pt x="552" y="0"/>
                    <a:pt x="635" y="15"/>
                  </a:cubicBezTo>
                  <a:cubicBezTo>
                    <a:pt x="718" y="30"/>
                    <a:pt x="767" y="68"/>
                    <a:pt x="817" y="10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847520" y="371628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62760" y="3429000"/>
            <a:ext cx="1580760" cy="1622880"/>
            <a:chOff x="3362760" y="3429000"/>
            <a:chExt cx="1580760" cy="1622880"/>
          </a:xfrm>
        </p:grpSpPr>
        <p:sp>
          <p:nvSpPr>
            <p:cNvPr id="51" name=""/>
            <p:cNvSpPr/>
            <p:nvPr/>
          </p:nvSpPr>
          <p:spPr>
            <a:xfrm>
              <a:off x="3362760" y="465300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Hall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200000">
              <a:off x="4427280" y="4653000"/>
              <a:ext cx="172800" cy="218880"/>
            </a:xfrm>
            <a:custGeom>
              <a:avLst/>
              <a:gdLst>
                <a:gd name="textAreaLeft" fmla="*/ 37800 w 172800"/>
                <a:gd name="textAreaRight" fmla="*/ 135000 w 172800"/>
                <a:gd name="textAreaTop" fmla="*/ 47880 h 218880"/>
                <a:gd name="textAreaBottom" fmla="*/ 17100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00720" y="3429000"/>
              <a:ext cx="442800" cy="1152360"/>
            </a:xfrm>
            <a:custGeom>
              <a:avLst/>
              <a:gdLst/>
              <a:ahLst/>
              <a:rect l="l" t="t" r="r" b="b"/>
              <a:pathLst>
                <a:path w="325" h="771">
                  <a:moveTo>
                    <a:pt x="272" y="0"/>
                  </a:moveTo>
                  <a:cubicBezTo>
                    <a:pt x="295" y="83"/>
                    <a:pt x="318" y="167"/>
                    <a:pt x="318" y="227"/>
                  </a:cubicBezTo>
                  <a:cubicBezTo>
                    <a:pt x="318" y="287"/>
                    <a:pt x="325" y="272"/>
                    <a:pt x="272" y="363"/>
                  </a:cubicBezTo>
                  <a:cubicBezTo>
                    <a:pt x="219" y="454"/>
                    <a:pt x="109" y="612"/>
                    <a:pt x="0" y="77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4400000">
              <a:off x="4234320" y="4557600"/>
              <a:ext cx="173160" cy="219240"/>
            </a:xfrm>
            <a:custGeom>
              <a:avLst/>
              <a:gdLst>
                <a:gd name="textAreaLeft" fmla="*/ 37800 w 173160"/>
                <a:gd name="textAreaRight" fmla="*/ 135360 w 173160"/>
                <a:gd name="textAreaTop" fmla="*/ 48240 h 219240"/>
                <a:gd name="textAreaBottom" fmla="*/ 171000 h 2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6381720"/>
            <a:ext cx="8459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0960" y="1284120"/>
            <a:ext cx="4783320" cy="336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6381720"/>
            <a:ext cx="8459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4440" y="220680"/>
            <a:ext cx="46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Verdana"/>
              </a:rPr>
              <a:t>J</a:t>
            </a:r>
            <a:r>
              <a:rPr b="0" lang="it-IT" sz="2400" spc="-1" strike="noStrike">
                <a:solidFill>
                  <a:srgbClr val="333399"/>
                </a:solidFill>
                <a:latin typeface="Verdana"/>
              </a:rPr>
              <a:t>LAB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Hall </a:t>
            </a:r>
            <a:r>
              <a:rPr b="1" lang="it-IT" sz="2800" spc="-1" strike="noStrike">
                <a:solidFill>
                  <a:srgbClr val="333399"/>
                </a:solidFill>
                <a:latin typeface="Verdan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3760" y="1322280"/>
            <a:ext cx="4641840" cy="328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1120" y="762120"/>
            <a:ext cx="77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The two 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gh 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esolution 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pectrometer (HRS) in Hall 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@ J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27720" y="3048120"/>
            <a:ext cx="44053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3087720"/>
            <a:ext cx="4341960" cy="313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671080" y="1545480"/>
            <a:ext cx="278820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Beam energy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: 4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3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E/E :              2.5 10</a:t>
            </a:r>
            <a:r>
              <a:rPr b="1" lang="en-US" sz="1600" spc="-1" strike="noStrike" baseline="30000">
                <a:solidFill>
                  <a:srgbClr val="333399"/>
                </a:solidFill>
                <a:latin typeface="Verdan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Beam current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: 10 - 10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Targets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208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209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un Tim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: approx 6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735800"/>
            <a:ext cx="3598920" cy="158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RS – QQDQ main characteristic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mentum rang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0.3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.0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GeV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p/p (FWHM):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    10</a:t>
            </a:r>
            <a:r>
              <a:rPr b="1" lang="en-US" sz="1600" spc="-1" strike="noStrike" baseline="30000">
                <a:solidFill>
                  <a:srgbClr val="333399"/>
                </a:solidFill>
                <a:latin typeface="Verdan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mentum accept.: ± 5 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id angle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5 – 6 m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nimum Angle :   12.5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HRS Main Design Perform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Arial"/>
              </a:rPr>
              <a:t>Maximum momentum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GeV/c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Angular rang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gree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12.5-165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Transverse focusing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y/y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Momentum acceptanc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%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Momentum dispersio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cm/%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Momentum resolutio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*10</a:t>
            </a:r>
            <a:r>
              <a:rPr b="0" lang="it-IT" sz="1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Radial Linear Magnification</a:t>
            </a: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/M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Angular horizontal acceptanc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mr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±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Angular vertical acceptanc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mr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±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Angular horizontal resolution</a:t>
            </a: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mr) **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Angular vertical resolutio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mr)**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Solid ang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msr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7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Transverse length acceptance</a:t>
            </a: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cm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±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Transverse position resolution</a:t>
            </a: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cm) **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* (horizontal coordinate on the focal plane)/(target po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** FW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8792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fornian FB"/>
                <a:ea typeface="Times New Roman"/>
              </a:rPr>
              <a:t>Impulse Approximation limitations to the (e,e’p) reaction on 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Californian FB"/>
                <a:ea typeface="Times New Roman"/>
              </a:rPr>
              <a:t>208</a:t>
            </a:r>
            <a:r>
              <a:rPr b="1" i="1" lang="en-US" sz="3200" spc="-1" strike="noStrike">
                <a:solidFill>
                  <a:srgbClr val="ff0000"/>
                </a:solidFill>
                <a:latin typeface="Californian FB"/>
                <a:ea typeface="Times New Roman"/>
              </a:rPr>
              <a:t>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Californian FB"/>
                <a:ea typeface="Times New Roman"/>
              </a:rPr>
              <a:t>Identifying </a:t>
            </a:r>
            <a:r>
              <a:rPr b="1" i="1" lang="en-US" sz="3200" spc="-1" strike="noStrike">
                <a:solidFill>
                  <a:srgbClr val="ff0000"/>
                </a:solidFill>
                <a:latin typeface="Californian FB"/>
                <a:ea typeface="Times New Roman"/>
              </a:rPr>
              <a:t>correlations and relativistic effects in the nuclear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36320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alifornian FB"/>
                <a:ea typeface="Times New Roman"/>
              </a:rPr>
              <a:t>K. Aniol, A. Saha, J.M. Udias,</a:t>
            </a:r>
            <a:r>
              <a:rPr b="1" lang="es-ES" sz="2400" spc="-1" strike="noStrike">
                <a:solidFill>
                  <a:srgbClr val="000080"/>
                </a:solidFill>
                <a:latin typeface="Californian FB"/>
                <a:ea typeface="Times New Roman"/>
              </a:rPr>
              <a:t> G.M. Urciuoli</a:t>
            </a:r>
            <a:r>
              <a:rPr b="1" lang="en-US" sz="2400" spc="-1" strike="noStrike">
                <a:solidFill>
                  <a:srgbClr val="000080"/>
                </a:solidFill>
                <a:latin typeface="Californian FB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Californian FB"/>
                <a:ea typeface="Times New Roman"/>
              </a:rPr>
              <a:t>Spoke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836640"/>
            <a:ext cx="381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11970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1125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Jlab experiment E06-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47628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High resolution challen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52480" y="5105520"/>
            <a:ext cx="381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goal of th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72216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27160" y="1407960"/>
            <a:ext cx="740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765000"/>
            <a:ext cx="790092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08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b, a doubly magic, complex nuclei, a textbook case for the shell model. 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ure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0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b(e,e’p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l cross section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sielastic kinematic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d at both sides of q. This has never been done before for A&gt;16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low lying states in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5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4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68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7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sielastic kinematic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 q = 1 GeV/c 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33 GeV/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momentum distribu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0 &lt;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i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500 MeV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measuring cross sections on either side of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0040" y="646200"/>
            <a:ext cx="2530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4191120" cy="257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848720" y="2362320"/>
            <a:ext cx="99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292640"/>
            <a:ext cx="449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l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u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IK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2480" y="5105520"/>
            <a:ext cx="381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304920"/>
            <a:ext cx="784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eak Extraction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GEANT Sim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27160" y="1407960"/>
            <a:ext cx="740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0040" y="646200"/>
            <a:ext cx="2530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280" y="25509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3005280" cy="5410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284720" y="4869000"/>
            <a:ext cx="441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itation Energy (MeV)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0MeV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3422520" cy="342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356000" y="5300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erform a good peak extractio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MeV resolutio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5105520"/>
            <a:ext cx="381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049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arget Issues and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7160" y="1407960"/>
            <a:ext cx="740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8640" y="17128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25509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990720"/>
            <a:ext cx="765360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rget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arget have to withstand currents up to 80 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est comprimise between event statistic (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ick target)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tion (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in target) had to be foun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rget cho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 Lead in diamond sandw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0.2 mm lead foil sandwiched between two 0.15 mm diamond foils at cryogenic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ther target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be0e3"/>
                </a:solidFill>
                <a:latin typeface="Arial"/>
              </a:rPr>
              <a:t>Target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1682640"/>
            <a:ext cx="51120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23:51:17Z</dcterms:created>
  <dc:creator>Guido Maria Urciuoli</dc:creator>
  <dc:description/>
  <dc:language>en-US</dc:language>
  <cp:lastModifiedBy>Guido Maria Urciuoli</cp:lastModifiedBy>
  <dcterms:modified xsi:type="dcterms:W3CDTF">2007-10-05T12:43:32Z</dcterms:modified>
  <cp:revision>33</cp:revision>
  <dc:subject/>
  <dc:title>Diapositiva 1</dc:title>
</cp:coreProperties>
</file>