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882-91D4-4589-918B-FD90BCD8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8CE-E95A-42B7-977E-870B8BBD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C99-653A-47D3-8D0C-95977E0B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097-D717-469D-B407-A541EFD5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628-33B2-492A-9309-336E7956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920-973C-423A-836C-6A0A3E1E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2C0-3193-4B42-8BEB-ED45B56F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D3F-A478-4C51-AAE4-767E524D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D23-DEC9-4D9A-BD44-F9D47980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007-B0D2-4C09-AD68-773DF17D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B10-E661-4403-989C-E15A5338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094-96A4-4417-8809-68ABA73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965D-99F2-4F19-A522-63C61E24A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alysis to-do list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E00-102]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Lab – 7-December-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0920" y="260280"/>
          <a:ext cx="8642160" cy="6335280"/>
        </p:xfrm>
        <a:graphic>
          <a:graphicData uri="http://schemas.openxmlformats.org/drawingml/2006/table">
            <a:tbl>
              <a:tblPr/>
              <a:tblGrid>
                <a:gridCol w="2162160"/>
                <a:gridCol w="2160360"/>
                <a:gridCol w="2157480"/>
                <a:gridCol w="2162160"/>
              </a:tblGrid>
              <a:tr h="61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ood / Fixable /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Bad Ru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Optics 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First Pas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Through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ty (Pb) / Position (B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 Effici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Defin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ster Cor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cidence Time 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DC Tra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ve Cor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Calibration (Energy, Charge, Pos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Loss Cor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Lumin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Space De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DC 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lute Norma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 Sections and ATL,R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333360"/>
          <a:ext cx="8642160" cy="633708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61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ood / Fixable /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Bad Ru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Optics Optim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First Pas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 Through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un Database (form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ethod: By-hand / Optimize++ / 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Resolu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ill not 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hoosing good ru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cidence Time is bad (20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omen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heck Database with Coincid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4:54:09Z</dcterms:created>
  <dc:creator>PET</dc:creator>
  <dc:description/>
  <dc:language>en-US</dc:language>
  <cp:lastModifiedBy>PET</cp:lastModifiedBy>
  <dcterms:modified xsi:type="dcterms:W3CDTF">2007-12-07T16:25:36Z</dcterms:modified>
  <cp:revision>3</cp:revision>
  <dc:subject/>
  <dc:title>Diapositiva 1</dc:title>
</cp:coreProperties>
</file>