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78E-7A0F-4DEB-A6E8-2B07BA1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4B0-F78E-48F1-8D1E-7BD9A595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369-8159-4FA1-8F64-E67FB66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2BA-3339-4076-BF60-F4D3CDA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6CB-270D-40B2-9E45-241A97C2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4D7-BB29-41D7-889B-201E438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89C-3145-4EC7-B957-0AEA4AFF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C80-9D1A-4039-9B41-983017F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1C2-2F13-4747-9EF5-2DDCC4D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FC8-920E-4892-AE4F-3FB7353C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E31-9A57-4746-9D47-D79B79C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FD0-DACB-4ECC-9207-918476E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0FE79-98AD-4B46-ABDD-E64197F4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160" y="193680"/>
            <a:ext cx="45972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2p Third Arm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7280" y="905040"/>
            <a:ext cx="442584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area of about 12x24 in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scintillator pad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mounted on the left side of the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was successfully commissioned in Dec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s were optim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d channels were fix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mm Al shielding wa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eb 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ated plastic will be used to shield neutron flux from local 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P to access to the detector – same restrictions as that of platform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commissioned, need to access the detector will be minimal (i.e, only if something bre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79880" y="254160"/>
            <a:ext cx="488628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48704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22:45:40Z</dcterms:created>
  <dc:creator>Kalyan Allada</dc:creator>
  <dc:description/>
  <dc:language>en-US</dc:language>
  <cp:lastModifiedBy>Kalyan Allada</cp:lastModifiedBy>
  <dcterms:modified xsi:type="dcterms:W3CDTF">2012-01-10T23:24:10Z</dcterms:modified>
  <cp:revision>25</cp:revision>
  <dc:subject/>
  <dc:title/>
</cp:coreProperties>
</file>