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1430000" cy="8686800"/>
  <p:notesSz cx="10058400" cy="7772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10058400" cy="77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3274560" y="777600"/>
            <a:ext cx="3505320" cy="26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535040" y="3700080"/>
            <a:ext cx="6996240" cy="29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3110040" y="582480"/>
            <a:ext cx="3838320" cy="2916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535040" y="3700080"/>
            <a:ext cx="6996240" cy="29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Header Placeholder 4"/>
          <p:cNvSpPr/>
          <p:nvPr/>
        </p:nvSpPr>
        <p:spPr>
          <a:xfrm>
            <a:off x="0" y="0"/>
            <a:ext cx="43592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6" name="Footer Placeholder 5"/>
          <p:cNvSpPr/>
          <p:nvPr/>
        </p:nvSpPr>
        <p:spPr>
          <a:xfrm>
            <a:off x="0" y="7381800"/>
            <a:ext cx="4359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J:/jlab work/HALL A/g2P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8D13-86CA-4D3C-80C3-D8A1CEE3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971568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57160" y="5231880"/>
            <a:ext cx="971568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D18-48E5-431D-B569-025B2840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71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359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72A-DD9F-4E90-923B-A160EFF0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42160" y="250956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0" y="250956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57160" y="523188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42160" y="523188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426800" y="523188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874-1741-47B9-9985-1BBC7C21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F050-3D24-40A0-ADCF-E275A400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57160" y="2509560"/>
            <a:ext cx="971568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3CD1-0CE2-49BA-9DBC-0B12FBA0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971568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AFCB-8F3B-4D37-B7C8-389C55C2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7BB7-ED2A-4E0B-B971-49B0C832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D4A3-A9D7-4A1C-A898-6BFAF227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57160" y="771480"/>
            <a:ext cx="97156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54AA-7531-4971-8494-F3552191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571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326A-11CC-4B63-BC27-2AF0A532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57160" y="2509560"/>
            <a:ext cx="971568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3EA2-3644-430B-8B89-13197E18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8359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139F-AF8A-4492-BD32-37C2EE29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57160" y="5231880"/>
            <a:ext cx="971568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1A84-5880-448D-828A-CAEE2FF7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971568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57160" y="5231880"/>
            <a:ext cx="971568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EA46-4EFD-4BF2-97D1-8E4419D1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71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8359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EC96-7D7E-4E2C-ACA5-7A5835DD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42160" y="250956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426800" y="250956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57160" y="523188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42160" y="523188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426800" y="523188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E393-4628-4485-8141-F40AC3EE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84B2D-597A-4DD5-8F77-2D2B7B94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57160" y="2509560"/>
            <a:ext cx="971568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65951-256E-4B94-B178-69D0CD7F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971568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50D7E-26E7-450A-BD5A-C9179D61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85EFB-5E09-4F69-814E-89D158EF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E1EF0-B34B-4572-A86E-32298866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971568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9B7-59E6-4AFF-ABD3-0E2A25F4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57160" y="771480"/>
            <a:ext cx="97156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E74E9-D300-4937-BDC1-463663E4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571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542C8-58AB-4ECF-A014-357639FB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8359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A1F85-8DFB-42F7-B9B5-F3BFDB40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57160" y="5231880"/>
            <a:ext cx="971568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1EE65-1BA1-4724-ADE6-6E081B6E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971568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57160" y="5231880"/>
            <a:ext cx="971568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3F85A-3839-46A9-9825-196DDE37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571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8359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27155-4F69-4887-9C3D-03F3C24D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42160" y="250956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426800" y="250956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57160" y="523188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42160" y="523188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426800" y="5231880"/>
            <a:ext cx="312804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43252-DA8E-40EA-BA65-0E6DF603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D334-9E73-4871-8E62-3BC3EBD8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A55-26EB-4C43-9831-0B1EEE01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57160" y="771480"/>
            <a:ext cx="97156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D4C5-1124-4720-ABD6-B9E812C3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571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3C7-D279-468C-913D-8FE0FE49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52117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35960" y="523188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DD4B-0DA5-444E-A636-F44CBA0F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71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35960" y="2509560"/>
            <a:ext cx="474120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57160" y="5231880"/>
            <a:ext cx="9715680" cy="2485800"/>
          </a:xfrm>
          <a:prstGeom prst="rect">
            <a:avLst/>
          </a:prstGeom>
          <a:noFill/>
          <a:ln w="0">
            <a:noFill/>
          </a:ln>
        </p:spPr>
        <p:txBody>
          <a:bodyPr lIns="114840" rIns="11484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7D5A-720D-4FEF-8540-35FE1CA7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7160" y="2509560"/>
            <a:ext cx="9715680" cy="5211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rmAutofit/>
          </a:bodyPr>
          <a:p>
            <a:pPr marL="431640" indent="-431640">
              <a:spcBef>
                <a:spcPts val="1001"/>
              </a:spcBef>
              <a:buClr>
                <a:srgbClr val="ff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33480" indent="-358920">
              <a:spcBef>
                <a:spcPts val="10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2" marL="1436760" indent="-287280">
              <a:spcBef>
                <a:spcPts val="1001"/>
              </a:spcBef>
              <a:buClr>
                <a:srgbClr val="ff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3" marL="2011320" indent="-287280">
              <a:spcBef>
                <a:spcPts val="10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4" marL="2585880" indent="-287280">
              <a:spcBef>
                <a:spcPts val="1001"/>
              </a:spcBef>
              <a:buClr>
                <a:srgbClr val="ff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5" marL="2585880" indent="-287280">
              <a:spcBef>
                <a:spcPts val="1001"/>
              </a:spcBef>
              <a:buClr>
                <a:srgbClr val="ffffff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6" marL="2585880" indent="-287280">
              <a:spcBef>
                <a:spcPts val="1001"/>
              </a:spcBef>
              <a:buClr>
                <a:srgbClr val="ffffff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6800" y="7914960"/>
            <a:ext cx="2381400" cy="57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. Slifer Crimea07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05280" y="7914960"/>
            <a:ext cx="3619440" cy="57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91080" y="7914960"/>
            <a:ext cx="2381400" cy="57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0B1B-E253-4327-AAFB-374C5A2BE6EB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57160" y="2509560"/>
            <a:ext cx="9715680" cy="5211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rmAutofit/>
          </a:bodyPr>
          <a:p>
            <a:pPr marL="431640" indent="-431640">
              <a:spcBef>
                <a:spcPts val="1001"/>
              </a:spcBef>
              <a:buClr>
                <a:srgbClr val="ff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33480" indent="-358920">
              <a:spcBef>
                <a:spcPts val="10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2" marL="1436760" indent="-287280">
              <a:spcBef>
                <a:spcPts val="1001"/>
              </a:spcBef>
              <a:buClr>
                <a:srgbClr val="ff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3" marL="2011320" indent="-287280">
              <a:spcBef>
                <a:spcPts val="10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4" marL="2585880" indent="-287280">
              <a:spcBef>
                <a:spcPts val="1001"/>
              </a:spcBef>
              <a:buClr>
                <a:srgbClr val="ff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5" marL="2585880" indent="-287280">
              <a:spcBef>
                <a:spcPts val="1001"/>
              </a:spcBef>
              <a:buClr>
                <a:srgbClr val="ffffff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6" marL="2585880" indent="-287280">
              <a:spcBef>
                <a:spcPts val="1001"/>
              </a:spcBef>
              <a:buClr>
                <a:srgbClr val="ffffff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56800" y="7914960"/>
            <a:ext cx="2381400" cy="57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. Slifer Crimea07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905280" y="7914960"/>
            <a:ext cx="3619440" cy="57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191080" y="7914960"/>
            <a:ext cx="2381400" cy="57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567A-2C64-465A-B657-78FD24424F6B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7160" y="771480"/>
            <a:ext cx="9715680" cy="1447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57160" y="2509560"/>
            <a:ext cx="9715680" cy="5211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rmAutofit/>
          </a:bodyPr>
          <a:p>
            <a:pPr marL="431640" indent="-431640">
              <a:spcBef>
                <a:spcPts val="1001"/>
              </a:spcBef>
              <a:buClr>
                <a:srgbClr val="ff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33480" indent="-358920">
              <a:spcBef>
                <a:spcPts val="10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2" marL="1436760" indent="-287280">
              <a:spcBef>
                <a:spcPts val="1001"/>
              </a:spcBef>
              <a:buClr>
                <a:srgbClr val="ff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3" marL="2011320" indent="-287280">
              <a:spcBef>
                <a:spcPts val="10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4" marL="2585880" indent="-287280">
              <a:spcBef>
                <a:spcPts val="1001"/>
              </a:spcBef>
              <a:buClr>
                <a:srgbClr val="ffff66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5" marL="2585880" indent="-287280">
              <a:spcBef>
                <a:spcPts val="1001"/>
              </a:spcBef>
              <a:buClr>
                <a:srgbClr val="ffffff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6" marL="2585880" indent="-287280">
              <a:spcBef>
                <a:spcPts val="1001"/>
              </a:spcBef>
              <a:buClr>
                <a:srgbClr val="ffffff"/>
              </a:buClr>
              <a:buFont typeface="Wingdings" charset="2"/>
              <a:buChar char="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56800" y="7914960"/>
            <a:ext cx="2381400" cy="57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. Slifer Crimea07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905280" y="7914960"/>
            <a:ext cx="3619440" cy="57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191080" y="7914960"/>
            <a:ext cx="2381400" cy="57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txBody>
          <a:bodyPr lIns="114840" rIns="114840" tIns="57600" bIns="57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70F1-E8C3-4C1F-B079-C5E8380AD4CA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590920" y="2743200"/>
            <a:ext cx="6248160" cy="688320"/>
          </a:xfrm>
          <a:prstGeom prst="rect">
            <a:avLst/>
          </a:prstGeom>
          <a:solidFill>
            <a:srgbClr val="00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halkboard"/>
              </a:rPr>
              <a:t>Introduction / Overview</a:t>
            </a:r>
            <a:endParaRPr b="0" lang="en-US" sz="3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752480" y="3657600"/>
            <a:ext cx="8425080" cy="17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halkboard"/>
              </a:rPr>
              <a:t>                  </a:t>
            </a:r>
            <a:r>
              <a:rPr b="0" lang="en-US" sz="3800" spc="-1" strike="noStrike">
                <a:solidFill>
                  <a:srgbClr val="0000ff"/>
                </a:solidFill>
                <a:latin typeface="Chalkboard"/>
              </a:rPr>
              <a:t>Jian-ping Chen</a:t>
            </a:r>
            <a:endParaRPr b="0" lang="en-US" sz="3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Chalkboard"/>
              </a:rPr>
              <a:t>         </a:t>
            </a:r>
            <a:r>
              <a:rPr b="0" lang="en-US" sz="2800" spc="-1" strike="noStrike">
                <a:solidFill>
                  <a:srgbClr val="000066"/>
                </a:solidFill>
                <a:latin typeface="Chalkboard"/>
              </a:rPr>
              <a:t>g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Chalkboard"/>
              </a:rPr>
              <a:t>2</a:t>
            </a:r>
            <a:r>
              <a:rPr b="0" lang="en-US" sz="2800" spc="-1" strike="noStrike" baseline="30000">
                <a:solidFill>
                  <a:srgbClr val="000066"/>
                </a:solidFill>
                <a:latin typeface="Chalkboard"/>
              </a:rPr>
              <a:t>p </a:t>
            </a:r>
            <a:r>
              <a:rPr b="0" lang="en-US" sz="2800" spc="-1" strike="noStrike">
                <a:solidFill>
                  <a:srgbClr val="000066"/>
                </a:solidFill>
                <a:latin typeface="Chalkboard"/>
              </a:rPr>
              <a:t>/G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Chalkboard"/>
              </a:rPr>
              <a:t>Ep</a:t>
            </a:r>
            <a:r>
              <a:rPr b="0" lang="en-US" sz="2800" spc="-1" strike="noStrike">
                <a:solidFill>
                  <a:srgbClr val="000066"/>
                </a:solidFill>
                <a:latin typeface="Chalkboard"/>
              </a:rPr>
              <a:t>  Readiness Review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halkboard"/>
              </a:rPr>
              <a:t>             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Chalkboard"/>
              </a:rPr>
              <a:t>1/17/2012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ounded Rectangle 16"/>
          <p:cNvSpPr/>
          <p:nvPr/>
        </p:nvSpPr>
        <p:spPr>
          <a:xfrm>
            <a:off x="7086600" y="7086600"/>
            <a:ext cx="4343400" cy="1447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5181480" y="514188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37" name="TextBox 9"/>
          <p:cNvSpPr/>
          <p:nvPr/>
        </p:nvSpPr>
        <p:spPr>
          <a:xfrm>
            <a:off x="609480" y="1981080"/>
            <a:ext cx="105156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rget installation/testing: now to mid-Feb (2/15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ommissioning during or after target tests complet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Commissioning beamline/chicane/localdump/target/optic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unning from mid Feb to mid May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enough beam time at 2.2 and 3.4 GeV, 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ut tight at 1.1 and 1.7 GeV due to constraints 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from running together with Hall C and Hall B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2399400" y="533520"/>
            <a:ext cx="665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missioning and Run Plan</a:t>
            </a:r>
            <a:endParaRPr b="0" lang="en-US" sz="4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6"/>
          <p:cNvSpPr/>
          <p:nvPr/>
        </p:nvSpPr>
        <p:spPr>
          <a:xfrm>
            <a:off x="7086600" y="7086600"/>
            <a:ext cx="4343400" cy="1447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5181480" y="514188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762120" y="1295280"/>
            <a:ext cx="10515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rget safety: (Chris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ollowing all safety considerations as in SANE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dditional controls in the target area (Ed/Chris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amline safety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SS system to include new changes (Chicane/target/dump) (Tim/Yves)     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on chambers, viewers, thermal couples (dump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ation consideration: (Pavel/George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LC dump design (Al worked with Pavel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ADCON group calculations of radiation levels (George)  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documents: (All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SAD (draft) ready (pavel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adiation effects (George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SAD (draft ready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SPs: mostly read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2" name="TextBox 10"/>
          <p:cNvSpPr/>
          <p:nvPr/>
        </p:nvSpPr>
        <p:spPr>
          <a:xfrm>
            <a:off x="1570320" y="228600"/>
            <a:ext cx="84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fety Considerations and Documents</a:t>
            </a:r>
            <a:endParaRPr b="0" lang="en-US" sz="4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ed Rectangle 16"/>
          <p:cNvSpPr/>
          <p:nvPr/>
        </p:nvSpPr>
        <p:spPr>
          <a:xfrm>
            <a:off x="7086600" y="7086600"/>
            <a:ext cx="4343400" cy="1447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5181480" y="514188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533520" y="1295280"/>
            <a:ext cx="10515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Charg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erimental Goals/Requirement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arized Target 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amlin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rt Structure / Beam Dump / Field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rometers / Detectors / DAQ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fety Consideration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ember Commissioning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paration Status / Installation 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issioning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erimental Run Plan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cument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4810680" y="304920"/>
            <a:ext cx="18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a0aff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070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7"/>
          <p:cNvSpPr/>
          <p:nvPr/>
        </p:nvSpPr>
        <p:spPr>
          <a:xfrm>
            <a:off x="2241360" y="152280"/>
            <a:ext cx="6817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08-027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: 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Proto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halkboard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tructure Function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304920" y="762120"/>
            <a:ext cx="111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undamental spin observable has never been measured at low or moderate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halkboar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34" name="Rectangle 44"/>
          <p:cNvSpPr/>
          <p:nvPr/>
        </p:nvSpPr>
        <p:spPr>
          <a:xfrm>
            <a:off x="304920" y="1523880"/>
            <a:ext cx="10972800" cy="32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halkboard"/>
              </a:rPr>
              <a:t>BC Sum Rule</a:t>
            </a:r>
            <a:r>
              <a:rPr b="1" lang="en-US" sz="1800" spc="-1" strike="noStrike">
                <a:solidFill>
                  <a:srgbClr val="000000"/>
                </a:solidFill>
                <a:latin typeface="Chalkboard"/>
              </a:rPr>
              <a:t> : 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violation suggested for proton at large 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halkboard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,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but found satisfied for the neutron &amp;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halkboard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e.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Lucida Grande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halkboard"/>
              </a:rPr>
              <a:t>Spin Polarizability</a:t>
            </a:r>
            <a:r>
              <a:rPr b="1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: Major failure (&gt;8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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T for neutr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halkboard"/>
              </a:rPr>
              <a:t>LT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.  Need 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halkboard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isospi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paration to solve.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halkboard"/>
              </a:rPr>
              <a:t>Hydrogen HyperFine Splitting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: Lack of knowledge of 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halkboard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at low 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halkboard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is one of the leading uncertainties.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Lucida Grande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halkboard"/>
              </a:rPr>
              <a:t>Proton Charge Radius</a:t>
            </a:r>
            <a:r>
              <a:rPr b="1" lang="en-US" sz="1800" spc="-1" strike="noStrike">
                <a:solidFill>
                  <a:srgbClr val="000000"/>
                </a:solidFill>
                <a:latin typeface="Chalkboard"/>
              </a:rPr>
              <a:t> :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lso one of the leading uncertainties in extraction of &lt;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halkboard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&gt; fro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 Lamb shift.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35" name="Rectangle 33"/>
          <p:cNvSpPr/>
          <p:nvPr/>
        </p:nvSpPr>
        <p:spPr>
          <a:xfrm>
            <a:off x="1851120" y="1219320"/>
            <a:ext cx="20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lkboard"/>
              </a:rPr>
              <a:t>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halkboard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Chalkboard"/>
              </a:rPr>
              <a:t>rating by PAC33 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36" name="Text Box 6"/>
          <p:cNvSpPr/>
          <p:nvPr/>
        </p:nvSpPr>
        <p:spPr>
          <a:xfrm rot="16200000">
            <a:off x="20160" y="5195160"/>
            <a:ext cx="16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C Sum Rule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37" name="Picture 26" descr="gam2"/>
          <p:cNvPicPr/>
          <p:nvPr/>
        </p:nvPicPr>
        <p:blipFill>
          <a:blip r:embed="rId1"/>
          <a:stretch/>
        </p:blipFill>
        <p:spPr>
          <a:xfrm>
            <a:off x="1066680" y="4495680"/>
            <a:ext cx="3962520" cy="3807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0819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138" name="TextBox 14"/>
          <p:cNvSpPr/>
          <p:nvPr/>
        </p:nvSpPr>
        <p:spPr>
          <a:xfrm>
            <a:off x="5867280" y="121932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halkboard"/>
              </a:rPr>
              <a:t>A. Camsonne, J. P. Chen, D. Crabb, K. Slifer*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39" name="Picture 15" descr="dlt.gif"/>
          <p:cNvPicPr/>
          <p:nvPr/>
        </p:nvPicPr>
        <p:blipFill>
          <a:blip r:embed="rId2"/>
          <a:stretch/>
        </p:blipFill>
        <p:spPr>
          <a:xfrm>
            <a:off x="6197760" y="4508640"/>
            <a:ext cx="3949560" cy="3819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0819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140" name="Rectangle 17"/>
          <p:cNvSpPr/>
          <p:nvPr/>
        </p:nvSpPr>
        <p:spPr>
          <a:xfrm>
            <a:off x="228600" y="4005360"/>
            <a:ext cx="1112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omic Sans MS"/>
              </a:rPr>
              <a:t>g</a:t>
            </a:r>
            <a:r>
              <a:rPr b="0" lang="en-US" sz="1600" spc="-1" strike="noStrike" baseline="-25000">
                <a:solidFill>
                  <a:srgbClr val="c00000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c00000"/>
                </a:solidFill>
                <a:latin typeface="Comic Sans MS"/>
              </a:rPr>
              <a:t> data strongly anticipated by theorists 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41" name="Text Box 6"/>
          <p:cNvSpPr/>
          <p:nvPr/>
        </p:nvSpPr>
        <p:spPr>
          <a:xfrm rot="16200000">
            <a:off x="4637880" y="5605920"/>
            <a:ext cx="271224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pin Polarizabilit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halkboard"/>
              </a:rPr>
              <a:t>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Group 5" descr=""/>
          <p:cNvPicPr/>
          <p:nvPr/>
        </p:nvPicPr>
        <p:blipFill>
          <a:blip r:embed="rId1"/>
          <a:stretch/>
        </p:blipFill>
        <p:spPr>
          <a:xfrm>
            <a:off x="1596960" y="2206800"/>
            <a:ext cx="8083440" cy="17254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8"/>
          <p:cNvSpPr/>
          <p:nvPr/>
        </p:nvSpPr>
        <p:spPr>
          <a:xfrm>
            <a:off x="1828800" y="152280"/>
            <a:ext cx="7467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08-007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: Form Factor Ratio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halkboard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/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halkboard"/>
              </a:rPr>
              <a:t>M    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576000" y="1676520"/>
            <a:ext cx="9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easure asym in both HRS simultaneously and form the super-ratio: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6324480" y="4419720"/>
            <a:ext cx="5105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solve/refute possible structure in the FF at low 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halkboar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(Freidrich and Walcher, 2003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ecise knowledge of the FFs at low 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halkboar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is critical for: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GPDs in DVCS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ＭＳ Ｐゴシック"/>
              </a:rPr>
              <a:t>Strange FF from Parity Violation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Provide definitive measurement of the Proton Zemach Radius and measurement of the charge radius.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0" y="4267080"/>
            <a:ext cx="5978520" cy="39546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3124080" y="4419720"/>
            <a:ext cx="3276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22ff"/>
                </a:solidFill>
                <a:latin typeface="Chalkboard"/>
              </a:rPr>
              <a:t>Projected Uncertainti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1600200" y="838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G. Ron*,  D. Higintbothan,  R. Gilman, J. Arrington,    A. Sarty,     D. Day 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ounded Rectangle 16"/>
          <p:cNvSpPr/>
          <p:nvPr/>
        </p:nvSpPr>
        <p:spPr>
          <a:xfrm>
            <a:off x="7086600" y="7086600"/>
            <a:ext cx="4343400" cy="1447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5181480" y="514188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609480" y="2286000"/>
            <a:ext cx="1051560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al (g2p experiment) : measure g2p with a precision ~ 5-7%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measuring transversely polarized cross section difference =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 both asymmetries and cross sections to ~4-5%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total systematics to 3-5%,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ach sub-system to 1-3%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al (GEp): measure GEp with a precision to ~&lt;1%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measuring asymmetry ratio between left HRS and right HRS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systematics: target spin direction (0.1 degree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2 mr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e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ce between L / R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good optics: HRS+septum+target field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1287360" y="685800"/>
            <a:ext cx="846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xperimental Goals/Requirements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1822320" y="6756480"/>
            <a:ext cx="223920" cy="99540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32"/>
          <p:cNvGrpSpPr/>
          <p:nvPr/>
        </p:nvGrpSpPr>
        <p:grpSpPr>
          <a:xfrm>
            <a:off x="0" y="4343400"/>
            <a:ext cx="11236320" cy="3691080"/>
            <a:chOff x="0" y="4343400"/>
            <a:chExt cx="11236320" cy="3691080"/>
          </a:xfrm>
        </p:grpSpPr>
        <p:pic>
          <p:nvPicPr>
            <p:cNvPr id="155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4474800"/>
              <a:ext cx="1751760" cy="355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" descr=""/>
            <p:cNvPicPr/>
            <p:nvPr/>
          </p:nvPicPr>
          <p:blipFill>
            <a:blip r:embed="rId3"/>
            <a:stretch/>
          </p:blipFill>
          <p:spPr>
            <a:xfrm>
              <a:off x="2484000" y="4343400"/>
              <a:ext cx="3863880" cy="36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" descr=""/>
            <p:cNvPicPr/>
            <p:nvPr/>
          </p:nvPicPr>
          <p:blipFill>
            <a:blip r:embed="rId4"/>
            <a:stretch/>
          </p:blipFill>
          <p:spPr>
            <a:xfrm>
              <a:off x="2145960" y="5923080"/>
              <a:ext cx="366120" cy="7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7" descr=""/>
            <p:cNvPicPr/>
            <p:nvPr/>
          </p:nvPicPr>
          <p:blipFill>
            <a:blip r:embed="rId5"/>
            <a:stretch/>
          </p:blipFill>
          <p:spPr>
            <a:xfrm>
              <a:off x="8425800" y="5725440"/>
              <a:ext cx="646560" cy="12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7"/>
            <p:cNvSpPr/>
            <p:nvPr/>
          </p:nvSpPr>
          <p:spPr>
            <a:xfrm>
              <a:off x="1749240" y="6054840"/>
              <a:ext cx="379080" cy="689040"/>
            </a:xfrm>
            <a:prstGeom prst="rect">
              <a:avLst/>
            </a:prstGeom>
            <a:solidFill>
              <a:srgbClr val="6666ff"/>
            </a:solidFill>
            <a:ln w="25560">
              <a:solidFill>
                <a:srgbClr val="49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6360" rIns="216360" tIns="108360" bIns="10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halkboard"/>
              </a:endParaRPr>
            </a:p>
          </p:txBody>
        </p:sp>
        <p:pic>
          <p:nvPicPr>
            <p:cNvPr id="160" name="Picture 3" descr=""/>
            <p:cNvPicPr/>
            <p:nvPr/>
          </p:nvPicPr>
          <p:blipFill>
            <a:blip r:embed="rId6"/>
            <a:stretch/>
          </p:blipFill>
          <p:spPr>
            <a:xfrm>
              <a:off x="6378840" y="6186240"/>
              <a:ext cx="608760" cy="162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4" descr=""/>
            <p:cNvPicPr/>
            <p:nvPr/>
          </p:nvPicPr>
          <p:blipFill>
            <a:blip r:embed="rId7"/>
            <a:stretch/>
          </p:blipFill>
          <p:spPr>
            <a:xfrm>
              <a:off x="7253280" y="6437520"/>
              <a:ext cx="516600" cy="129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Straight Connector 19"/>
            <p:cNvSpPr/>
            <p:nvPr/>
          </p:nvSpPr>
          <p:spPr>
            <a:xfrm flipV="1">
              <a:off x="6310440" y="7726320"/>
              <a:ext cx="4925880" cy="6120"/>
            </a:xfrm>
            <a:prstGeom prst="line">
              <a:avLst/>
            </a:prstGeom>
            <a:ln w="9360">
              <a:solidFill>
                <a:srgbClr val="6060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halkboard"/>
              </a:endParaRPr>
            </a:p>
          </p:txBody>
        </p:sp>
      </p:grpSp>
      <p:sp>
        <p:nvSpPr>
          <p:cNvPr id="163" name="Straight Connector 13"/>
          <p:cNvSpPr/>
          <p:nvPr/>
        </p:nvSpPr>
        <p:spPr>
          <a:xfrm>
            <a:off x="6334200" y="6967440"/>
            <a:ext cx="0" cy="1495440"/>
          </a:xfrm>
          <a:prstGeom prst="line">
            <a:avLst/>
          </a:prstGeom>
          <a:ln w="63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4" name="Straight Connector 15"/>
          <p:cNvSpPr/>
          <p:nvPr/>
        </p:nvSpPr>
        <p:spPr>
          <a:xfrm>
            <a:off x="8390880" y="7174080"/>
            <a:ext cx="11160" cy="1311120"/>
          </a:xfrm>
          <a:prstGeom prst="line">
            <a:avLst/>
          </a:prstGeom>
          <a:ln w="63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5" name="Straight Connector 25"/>
          <p:cNvSpPr/>
          <p:nvPr/>
        </p:nvSpPr>
        <p:spPr>
          <a:xfrm>
            <a:off x="262080" y="7797960"/>
            <a:ext cx="0" cy="591840"/>
          </a:xfrm>
          <a:prstGeom prst="line">
            <a:avLst/>
          </a:prstGeom>
          <a:ln w="63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6" name="TextBox 26"/>
          <p:cNvSpPr/>
          <p:nvPr/>
        </p:nvSpPr>
        <p:spPr>
          <a:xfrm>
            <a:off x="714240" y="8001000"/>
            <a:ext cx="1024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EGION 1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7" name="TextBox 27"/>
          <p:cNvSpPr/>
          <p:nvPr/>
        </p:nvSpPr>
        <p:spPr>
          <a:xfrm>
            <a:off x="3819600" y="8026560"/>
            <a:ext cx="1071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EGION 2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8" name="Rectangle 28"/>
          <p:cNvSpPr/>
          <p:nvPr/>
        </p:nvSpPr>
        <p:spPr>
          <a:xfrm>
            <a:off x="6957360" y="8026560"/>
            <a:ext cx="10029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32400" tIns="16200" bIns="16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EGION 3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9" name="Straight Connector 34"/>
          <p:cNvSpPr/>
          <p:nvPr/>
        </p:nvSpPr>
        <p:spPr>
          <a:xfrm>
            <a:off x="2519280" y="7118280"/>
            <a:ext cx="0" cy="1316160"/>
          </a:xfrm>
          <a:prstGeom prst="line">
            <a:avLst/>
          </a:prstGeom>
          <a:ln w="63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0" name="Straight Connector 36"/>
          <p:cNvSpPr/>
          <p:nvPr/>
        </p:nvSpPr>
        <p:spPr>
          <a:xfrm>
            <a:off x="9144000" y="7174080"/>
            <a:ext cx="9360" cy="1339560"/>
          </a:xfrm>
          <a:prstGeom prst="line">
            <a:avLst/>
          </a:prstGeom>
          <a:ln w="63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cxnSp>
        <p:nvCxnSpPr>
          <p:cNvPr id="171" name="Straight Arrow Connector 39"/>
          <p:cNvCxnSpPr/>
          <p:nvPr/>
        </p:nvCxnSpPr>
        <p:spPr>
          <a:xfrm>
            <a:off x="8715240" y="6251400"/>
            <a:ext cx="929520" cy="88992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cxnSp>
        <p:nvCxnSpPr>
          <p:cNvPr id="172" name="Straight Arrow Connector 41"/>
          <p:cNvCxnSpPr/>
          <p:nvPr/>
        </p:nvCxnSpPr>
        <p:spPr>
          <a:xfrm>
            <a:off x="8715240" y="6251040"/>
            <a:ext cx="929520" cy="65988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cxnSp>
        <p:nvCxnSpPr>
          <p:cNvPr id="173" name="Straight Arrow Connector 43"/>
          <p:cNvCxnSpPr/>
          <p:nvPr/>
        </p:nvCxnSpPr>
        <p:spPr>
          <a:xfrm>
            <a:off x="8691480" y="6251040"/>
            <a:ext cx="977040" cy="56124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sp>
        <p:nvSpPr>
          <p:cNvPr id="174" name="TextBox 47"/>
          <p:cNvSpPr/>
          <p:nvPr/>
        </p:nvSpPr>
        <p:spPr>
          <a:xfrm>
            <a:off x="8445600" y="8039160"/>
            <a:ext cx="842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EG 4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5" name="TextBox 48"/>
          <p:cNvSpPr/>
          <p:nvPr/>
        </p:nvSpPr>
        <p:spPr>
          <a:xfrm flipH="1">
            <a:off x="9810720" y="8047080"/>
            <a:ext cx="1014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REGION 5</a:t>
            </a:r>
            <a:endParaRPr b="0" lang="en-US" sz="16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6" name="Straight Connector 60"/>
          <p:cNvSpPr/>
          <p:nvPr/>
        </p:nvSpPr>
        <p:spPr>
          <a:xfrm>
            <a:off x="6953400" y="6481800"/>
            <a:ext cx="571320" cy="263520"/>
          </a:xfrm>
          <a:prstGeom prst="line">
            <a:avLst/>
          </a:prstGeom>
          <a:ln w="9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7" name="Straight Connector 62"/>
          <p:cNvSpPr/>
          <p:nvPr/>
        </p:nvSpPr>
        <p:spPr>
          <a:xfrm flipV="1">
            <a:off x="7524720" y="6349680"/>
            <a:ext cx="880920" cy="461880"/>
          </a:xfrm>
          <a:prstGeom prst="line">
            <a:avLst/>
          </a:prstGeom>
          <a:ln w="9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8" name="TextBox 64"/>
          <p:cNvSpPr/>
          <p:nvPr/>
        </p:nvSpPr>
        <p:spPr>
          <a:xfrm>
            <a:off x="1738440" y="5527800"/>
            <a:ext cx="1547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low Raster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9" name="Rectangle 68"/>
          <p:cNvSpPr/>
          <p:nvPr/>
        </p:nvSpPr>
        <p:spPr>
          <a:xfrm>
            <a:off x="4419720" y="4800600"/>
            <a:ext cx="1552320" cy="78912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Z1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xedStan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cxnSp>
        <p:nvCxnSpPr>
          <p:cNvPr id="180" name="Shape 70"/>
          <p:cNvCxnSpPr>
            <a:stCxn id="179" idx="3"/>
          </p:cNvCxnSpPr>
          <p:nvPr/>
        </p:nvCxnSpPr>
        <p:spPr>
          <a:xfrm>
            <a:off x="5971680" y="5195880"/>
            <a:ext cx="691560" cy="1085040"/>
          </a:xfrm>
          <a:prstGeom prst="bentConnector2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sp>
        <p:nvSpPr>
          <p:cNvPr id="181" name="Rectangle 71"/>
          <p:cNvSpPr/>
          <p:nvPr/>
        </p:nvSpPr>
        <p:spPr>
          <a:xfrm>
            <a:off x="7238880" y="4648320"/>
            <a:ext cx="2928960" cy="62532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Z2 Telescoping Stan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cxnSp>
        <p:nvCxnSpPr>
          <p:cNvPr id="182" name="Elbow Connector 73"/>
          <p:cNvCxnSpPr/>
          <p:nvPr/>
        </p:nvCxnSpPr>
        <p:spPr>
          <a:xfrm flipH="1" rot="16200000">
            <a:off x="6703560" y="5729760"/>
            <a:ext cx="1497960" cy="238680"/>
          </a:xfrm>
          <a:prstGeom prst="bentConnector3">
            <a:avLst>
              <a:gd name="adj1" fmla="val 50000"/>
            </a:avLst>
          </a:prstGeom>
          <a:ln w="25560">
            <a:solidFill>
              <a:srgbClr val="6060fd"/>
            </a:solidFill>
            <a:miter/>
            <a:tailEnd len="med" type="arrow" w="med"/>
          </a:ln>
        </p:spPr>
      </p:cxnSp>
      <p:pic>
        <p:nvPicPr>
          <p:cNvPr id="183" name="Picture 6" descr=""/>
          <p:cNvPicPr/>
          <p:nvPr/>
        </p:nvPicPr>
        <p:blipFill>
          <a:blip r:embed="rId8"/>
          <a:stretch/>
        </p:blipFill>
        <p:spPr>
          <a:xfrm>
            <a:off x="6388200" y="6566040"/>
            <a:ext cx="744480" cy="1176120"/>
          </a:xfrm>
          <a:prstGeom prst="rect">
            <a:avLst/>
          </a:prstGeom>
          <a:ln w="0">
            <a:noFill/>
          </a:ln>
        </p:spPr>
      </p:pic>
      <p:sp>
        <p:nvSpPr>
          <p:cNvPr id="184" name="Freeform 81"/>
          <p:cNvSpPr/>
          <p:nvPr/>
        </p:nvSpPr>
        <p:spPr>
          <a:xfrm>
            <a:off x="6632640" y="6818400"/>
            <a:ext cx="311040" cy="684000"/>
          </a:xfrm>
          <a:custGeom>
            <a:avLst/>
            <a:gdLst/>
            <a:ahLst/>
            <a:rect l="l" t="t" r="r" b="b"/>
            <a:pathLst>
              <a:path w="996286" h="1583140">
                <a:moveTo>
                  <a:pt x="327546" y="0"/>
                </a:moveTo>
                <a:lnTo>
                  <a:pt x="327546" y="0"/>
                </a:lnTo>
                <a:cubicBezTo>
                  <a:pt x="363940" y="22746"/>
                  <a:pt x="399051" y="47688"/>
                  <a:pt x="436728" y="68239"/>
                </a:cubicBezTo>
                <a:cubicBezTo>
                  <a:pt x="449357" y="75128"/>
                  <a:pt x="464804" y="75453"/>
                  <a:pt x="477671" y="81886"/>
                </a:cubicBezTo>
                <a:cubicBezTo>
                  <a:pt x="492342" y="89222"/>
                  <a:pt x="504550" y="100743"/>
                  <a:pt x="518615" y="109182"/>
                </a:cubicBezTo>
                <a:cubicBezTo>
                  <a:pt x="527338" y="114416"/>
                  <a:pt x="536812" y="118281"/>
                  <a:pt x="545910" y="122830"/>
                </a:cubicBezTo>
                <a:lnTo>
                  <a:pt x="641444" y="232012"/>
                </a:lnTo>
                <a:lnTo>
                  <a:pt x="955343" y="518615"/>
                </a:lnTo>
                <a:lnTo>
                  <a:pt x="996286" y="614149"/>
                </a:lnTo>
                <a:lnTo>
                  <a:pt x="996286" y="1583140"/>
                </a:lnTo>
                <a:lnTo>
                  <a:pt x="0" y="1528549"/>
                </a:lnTo>
                <a:lnTo>
                  <a:pt x="327546" y="0"/>
                </a:lnTo>
                <a:close/>
              </a:path>
            </a:pathLst>
          </a:custGeom>
          <a:solidFill>
            <a:srgbClr val="5e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85" name="Freeform 86"/>
          <p:cNvSpPr/>
          <p:nvPr/>
        </p:nvSpPr>
        <p:spPr>
          <a:xfrm>
            <a:off x="6286680" y="6488280"/>
            <a:ext cx="492120" cy="380880"/>
          </a:xfrm>
          <a:custGeom>
            <a:avLst/>
            <a:gdLst/>
            <a:ahLst/>
            <a:rect l="l" t="t" r="r" b="b"/>
            <a:pathLst>
              <a:path w="1576552" h="882869">
                <a:moveTo>
                  <a:pt x="0" y="47296"/>
                </a:moveTo>
                <a:lnTo>
                  <a:pt x="15766" y="882869"/>
                </a:lnTo>
                <a:lnTo>
                  <a:pt x="1576552" y="835572"/>
                </a:lnTo>
                <a:lnTo>
                  <a:pt x="1324303" y="536028"/>
                </a:lnTo>
                <a:lnTo>
                  <a:pt x="362607" y="520262"/>
                </a:lnTo>
                <a:lnTo>
                  <a:pt x="268014" y="0"/>
                </a:lnTo>
                <a:lnTo>
                  <a:pt x="0" y="47296"/>
                </a:lnTo>
                <a:close/>
              </a:path>
            </a:pathLst>
          </a:custGeom>
          <a:solidFill>
            <a:srgbClr val="5e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86" name="Freeform 89"/>
          <p:cNvSpPr/>
          <p:nvPr/>
        </p:nvSpPr>
        <p:spPr>
          <a:xfrm>
            <a:off x="7062840" y="6827760"/>
            <a:ext cx="93600" cy="887400"/>
          </a:xfrm>
          <a:custGeom>
            <a:avLst/>
            <a:gdLst/>
            <a:ahLst/>
            <a:rect l="l" t="t" r="r" b="b"/>
            <a:pathLst>
              <a:path w="301924" h="2053087">
                <a:moveTo>
                  <a:pt x="0" y="51758"/>
                </a:moveTo>
                <a:lnTo>
                  <a:pt x="25879" y="2053087"/>
                </a:lnTo>
                <a:lnTo>
                  <a:pt x="301924" y="2035834"/>
                </a:lnTo>
                <a:lnTo>
                  <a:pt x="250166" y="0"/>
                </a:lnTo>
                <a:lnTo>
                  <a:pt x="0" y="51758"/>
                </a:lnTo>
                <a:close/>
              </a:path>
            </a:pathLst>
          </a:custGeom>
          <a:solidFill>
            <a:srgbClr val="5e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87" name="Rectangle 95"/>
          <p:cNvSpPr/>
          <p:nvPr/>
        </p:nvSpPr>
        <p:spPr>
          <a:xfrm>
            <a:off x="9906120" y="6858000"/>
            <a:ext cx="1000080" cy="5922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DUMP</a:t>
            </a:r>
            <a:endParaRPr b="0" lang="en-US" sz="1700" spc="-1" strike="noStrike">
              <a:solidFill>
                <a:srgbClr val="000000"/>
              </a:solidFill>
              <a:latin typeface="Chalkboard"/>
            </a:endParaRPr>
          </a:p>
        </p:txBody>
      </p:sp>
      <p:cxnSp>
        <p:nvCxnSpPr>
          <p:cNvPr id="188" name="Straight Arrow Connector 99"/>
          <p:cNvCxnSpPr/>
          <p:nvPr/>
        </p:nvCxnSpPr>
        <p:spPr>
          <a:xfrm flipV="1">
            <a:off x="8229240" y="6629040"/>
            <a:ext cx="1080" cy="457920"/>
          </a:xfrm>
          <a:prstGeom prst="straightConnector1">
            <a:avLst/>
          </a:prstGeom>
          <a:ln w="25560">
            <a:solidFill>
              <a:srgbClr val="6060fd"/>
            </a:solidFill>
            <a:miter/>
            <a:tailEnd len="med" type="arrow" w="med"/>
          </a:ln>
        </p:spPr>
      </p:cxnSp>
      <p:pic>
        <p:nvPicPr>
          <p:cNvPr id="189" name="Picture 8" descr=""/>
          <p:cNvPicPr/>
          <p:nvPr/>
        </p:nvPicPr>
        <p:blipFill>
          <a:blip r:embed="rId9"/>
          <a:stretch/>
        </p:blipFill>
        <p:spPr>
          <a:xfrm>
            <a:off x="2190600" y="6659640"/>
            <a:ext cx="244800" cy="10764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12"/>
          <p:cNvSpPr/>
          <p:nvPr/>
        </p:nvSpPr>
        <p:spPr>
          <a:xfrm>
            <a:off x="8458200" y="5715000"/>
            <a:ext cx="11764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91" name="Straight Connector 116"/>
          <p:cNvSpPr/>
          <p:nvPr/>
        </p:nvSpPr>
        <p:spPr>
          <a:xfrm>
            <a:off x="1928160" y="6811920"/>
            <a:ext cx="6120" cy="93996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92" name="Straight Connector 118"/>
          <p:cNvSpPr/>
          <p:nvPr/>
        </p:nvSpPr>
        <p:spPr>
          <a:xfrm>
            <a:off x="2320200" y="6748560"/>
            <a:ext cx="4680" cy="9396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93" name="Straight Connector 120"/>
          <p:cNvSpPr/>
          <p:nvPr/>
        </p:nvSpPr>
        <p:spPr>
          <a:xfrm>
            <a:off x="6429240" y="6647040"/>
            <a:ext cx="595440" cy="0"/>
          </a:xfrm>
          <a:prstGeom prst="line">
            <a:avLst/>
          </a:prstGeom>
          <a:ln w="149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94" name="Straight Connector 123"/>
          <p:cNvSpPr/>
          <p:nvPr/>
        </p:nvSpPr>
        <p:spPr>
          <a:xfrm>
            <a:off x="7000920" y="6647040"/>
            <a:ext cx="0" cy="1085760"/>
          </a:xfrm>
          <a:prstGeom prst="line">
            <a:avLst/>
          </a:prstGeom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95" name="Straight Connector 125"/>
          <p:cNvSpPr/>
          <p:nvPr/>
        </p:nvSpPr>
        <p:spPr>
          <a:xfrm>
            <a:off x="7500240" y="7008840"/>
            <a:ext cx="11160" cy="720720"/>
          </a:xfrm>
          <a:prstGeom prst="line">
            <a:avLst/>
          </a:prstGeom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96" name="Straight Connector 128"/>
          <p:cNvSpPr/>
          <p:nvPr/>
        </p:nvSpPr>
        <p:spPr>
          <a:xfrm>
            <a:off x="6715080" y="6680160"/>
            <a:ext cx="285840" cy="39384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97" name="Rectangle 59"/>
          <p:cNvSpPr/>
          <p:nvPr/>
        </p:nvSpPr>
        <p:spPr>
          <a:xfrm>
            <a:off x="9601200" y="6553080"/>
            <a:ext cx="281160" cy="1179720"/>
          </a:xfrm>
          <a:prstGeom prst="rect">
            <a:avLst/>
          </a:prstGeom>
          <a:solidFill>
            <a:srgbClr val="ff0000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cxnSp>
        <p:nvCxnSpPr>
          <p:cNvPr id="198" name="Straight Arrow Connector 79"/>
          <p:cNvCxnSpPr/>
          <p:nvPr/>
        </p:nvCxnSpPr>
        <p:spPr>
          <a:xfrm flipH="1" flipV="1">
            <a:off x="261720" y="8192880"/>
            <a:ext cx="459360" cy="216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triangle" w="med"/>
          </a:ln>
        </p:spPr>
      </p:cxnSp>
      <p:cxnSp>
        <p:nvCxnSpPr>
          <p:cNvPr id="199" name="Straight Arrow Connector 82"/>
          <p:cNvCxnSpPr/>
          <p:nvPr/>
        </p:nvCxnSpPr>
        <p:spPr>
          <a:xfrm>
            <a:off x="1690200" y="8193240"/>
            <a:ext cx="810360" cy="216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triangle" w="med"/>
          </a:ln>
        </p:spPr>
      </p:cxnSp>
      <p:cxnSp>
        <p:nvCxnSpPr>
          <p:cNvPr id="200" name="Straight Arrow Connector 85"/>
          <p:cNvCxnSpPr/>
          <p:nvPr/>
        </p:nvCxnSpPr>
        <p:spPr>
          <a:xfrm>
            <a:off x="4905000" y="8208720"/>
            <a:ext cx="1382040" cy="540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triangle" w="med"/>
          </a:ln>
        </p:spPr>
      </p:cxnSp>
      <p:cxnSp>
        <p:nvCxnSpPr>
          <p:cNvPr id="201" name="Straight Arrow Connector 87"/>
          <p:cNvCxnSpPr/>
          <p:nvPr/>
        </p:nvCxnSpPr>
        <p:spPr>
          <a:xfrm>
            <a:off x="7918560" y="8208720"/>
            <a:ext cx="450000" cy="540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triangle" w="med"/>
          </a:ln>
        </p:spPr>
      </p:cxnSp>
      <p:cxnSp>
        <p:nvCxnSpPr>
          <p:cNvPr id="202" name="Straight Arrow Connector 100"/>
          <p:cNvCxnSpPr/>
          <p:nvPr/>
        </p:nvCxnSpPr>
        <p:spPr>
          <a:xfrm>
            <a:off x="10780200" y="8226000"/>
            <a:ext cx="500760" cy="108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triangle" w="med"/>
          </a:ln>
        </p:spPr>
      </p:cxnSp>
      <p:cxnSp>
        <p:nvCxnSpPr>
          <p:cNvPr id="203" name="Straight Arrow Connector 101"/>
          <p:cNvCxnSpPr/>
          <p:nvPr/>
        </p:nvCxnSpPr>
        <p:spPr>
          <a:xfrm flipH="1" flipV="1">
            <a:off x="2547360" y="8192520"/>
            <a:ext cx="1205640" cy="1332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triangle" w="med"/>
          </a:ln>
        </p:spPr>
      </p:cxnSp>
      <p:cxnSp>
        <p:nvCxnSpPr>
          <p:cNvPr id="204" name="Straight Arrow Connector 102"/>
          <p:cNvCxnSpPr/>
          <p:nvPr/>
        </p:nvCxnSpPr>
        <p:spPr>
          <a:xfrm flipH="1" flipV="1">
            <a:off x="6370200" y="8208360"/>
            <a:ext cx="573840" cy="540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triangle" w="med"/>
          </a:ln>
        </p:spPr>
      </p:cxnSp>
      <p:cxnSp>
        <p:nvCxnSpPr>
          <p:cNvPr id="205" name="Straight Arrow Connector 103"/>
          <p:cNvCxnSpPr/>
          <p:nvPr/>
        </p:nvCxnSpPr>
        <p:spPr>
          <a:xfrm flipH="1">
            <a:off x="9170280" y="8217360"/>
            <a:ext cx="616680" cy="396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triangle" w="med"/>
          </a:ln>
        </p:spPr>
      </p:cxnSp>
      <p:sp>
        <p:nvSpPr>
          <p:cNvPr id="206" name="TextBox 66"/>
          <p:cNvSpPr/>
          <p:nvPr/>
        </p:nvSpPr>
        <p:spPr>
          <a:xfrm>
            <a:off x="380880" y="914400"/>
            <a:ext cx="6324840" cy="35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olarized Solid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halkboard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Target 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arget material irradiation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Beamline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Magnetic Chicane/Beamline modifications.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Low beam current BCM/BPMs, Slow Raster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all A Engineering/Design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Local Beam Dump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eptum Magnet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Hall Infra-structure/Chamber/ Target/magnet mount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pectrometer/Detectors/QAD/Optics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olarimetry/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halkboard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arm</a:t>
            </a:r>
            <a:endParaRPr b="0" lang="en-US" sz="1800" spc="-1" strike="noStrike">
              <a:solidFill>
                <a:srgbClr val="000000"/>
              </a:solidFill>
              <a:latin typeface="Chalkboard"/>
            </a:endParaRPr>
          </a:p>
        </p:txBody>
      </p:sp>
      <p:cxnSp>
        <p:nvCxnSpPr>
          <p:cNvPr id="207" name="Straight Arrow Connector 65"/>
          <p:cNvCxnSpPr/>
          <p:nvPr/>
        </p:nvCxnSpPr>
        <p:spPr>
          <a:xfrm flipH="1" flipV="1">
            <a:off x="7924680" y="6780960"/>
            <a:ext cx="76680" cy="381960"/>
          </a:xfrm>
          <a:prstGeom prst="straightConnector1">
            <a:avLst/>
          </a:prstGeom>
          <a:ln w="25560">
            <a:solidFill>
              <a:srgbClr val="6060fd"/>
            </a:solidFill>
            <a:miter/>
            <a:tailEnd len="med" type="arrow" w="med"/>
          </a:ln>
        </p:spPr>
      </p:cxnSp>
      <p:sp>
        <p:nvSpPr>
          <p:cNvPr id="208" name="TextBox 69"/>
          <p:cNvSpPr/>
          <p:nvPr/>
        </p:nvSpPr>
        <p:spPr>
          <a:xfrm>
            <a:off x="7670520" y="7162920"/>
            <a:ext cx="8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PM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9" name="TextBox 63"/>
          <p:cNvSpPr/>
          <p:nvPr/>
        </p:nvSpPr>
        <p:spPr>
          <a:xfrm>
            <a:off x="6629400" y="1295280"/>
            <a:ext cx="44956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ll C target magnet failed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halkboard"/>
              </a:rPr>
              <a:t>Using Hall B magnet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Dec. commissioning (beamline/de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uccessful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ommissioned most component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dentified a few problem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1143000" y="152280"/>
            <a:ext cx="960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                         </a:t>
            </a:r>
            <a:r>
              <a:rPr b="1" lang="en-US" sz="4000" spc="-1" strike="noStrike">
                <a:solidFill>
                  <a:srgbClr val="0a0aff"/>
                </a:solidFill>
                <a:latin typeface="Times New Roman"/>
              </a:rPr>
              <a:t>Experimental Setup</a:t>
            </a:r>
            <a:endParaRPr b="0" lang="en-US" sz="4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1" name="Rectangle 63"/>
          <p:cNvSpPr/>
          <p:nvPr/>
        </p:nvSpPr>
        <p:spPr>
          <a:xfrm>
            <a:off x="9906120" y="6172200"/>
            <a:ext cx="1304640" cy="5922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Septa/HRS</a:t>
            </a:r>
            <a:endParaRPr b="0" lang="en-US" sz="17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2" name="TextBox 69"/>
          <p:cNvSpPr/>
          <p:nvPr/>
        </p:nvSpPr>
        <p:spPr>
          <a:xfrm>
            <a:off x="7453080" y="541008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Harp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cxnSp>
        <p:nvCxnSpPr>
          <p:cNvPr id="213" name="Straight Arrow Connector 78"/>
          <p:cNvCxnSpPr>
            <a:stCxn id="212" idx="2"/>
          </p:cNvCxnSpPr>
          <p:nvPr/>
        </p:nvCxnSpPr>
        <p:spPr>
          <a:xfrm>
            <a:off x="7902360" y="5810400"/>
            <a:ext cx="99000" cy="591120"/>
          </a:xfrm>
          <a:prstGeom prst="straightConnector1">
            <a:avLst/>
          </a:prstGeom>
          <a:ln w="25560">
            <a:solidFill>
              <a:srgbClr val="6060fd"/>
            </a:solidFill>
            <a:miter/>
            <a:tailEnd len="med" type="arrow" w="med"/>
          </a:ln>
        </p:spPr>
      </p:cxnSp>
      <p:cxnSp>
        <p:nvCxnSpPr>
          <p:cNvPr id="214" name="Straight Arrow Connector 80"/>
          <p:cNvCxnSpPr>
            <a:stCxn id="212" idx="1"/>
          </p:cNvCxnSpPr>
          <p:nvPr/>
        </p:nvCxnSpPr>
        <p:spPr>
          <a:xfrm flipH="1">
            <a:off x="6323760" y="5609880"/>
            <a:ext cx="1143720" cy="639000"/>
          </a:xfrm>
          <a:prstGeom prst="straightConnector1">
            <a:avLst/>
          </a:prstGeom>
          <a:ln w="25560">
            <a:solidFill>
              <a:srgbClr val="6060f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ed Rectangle 16"/>
          <p:cNvSpPr/>
          <p:nvPr/>
        </p:nvSpPr>
        <p:spPr>
          <a:xfrm>
            <a:off x="7086600" y="7086600"/>
            <a:ext cx="4343400" cy="1447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5181480" y="514188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533520" y="1295280"/>
            <a:ext cx="1051560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arget magnet failure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Hall B magne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ay of experiment (Mid-Feb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time for setpa-out runs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ommissioning in December with a </a:t>
            </a:r>
            <a:r>
              <a:rPr b="0" lang="en-US" sz="2800" spc="-1" strike="noStrike" baseline="30000">
                <a:solidFill>
                  <a:srgbClr val="0000ff"/>
                </a:solidFill>
                <a:latin typeface="Comic Sans MS"/>
              </a:rPr>
              <a:t>12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 foil target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amline components mostly commissioned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BPM(SEE), BCM, Tungsten Calorimeter, Slow Raster, Moller, Viewer, PSS…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nd problems: being addressed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 exit beam pipe </a:t>
            </a:r>
            <a:r>
              <a:rPr b="0" lang="en-US" sz="2000" spc="-1" strike="noStrike">
                <a:solidFill>
                  <a:srgbClr val="00b0f0"/>
                </a:solidFill>
                <a:latin typeface="Comic Sans MS"/>
              </a:rPr>
              <a:t>(mis-alignment due to vacuum force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0f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 superharp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RS/Septum/detectors/DAQ/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m commissioned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tics: partially started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Not commissioned: 4Ch BPM readout (not ready in Dec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                  </a:t>
            </a: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Polarized target, Chicane, Local dump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Main part optics (need sieve and target field)</a:t>
            </a:r>
            <a:endParaRPr b="0" lang="en-US" sz="28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8" name="TextBox 10"/>
          <p:cNvSpPr/>
          <p:nvPr/>
        </p:nvSpPr>
        <p:spPr>
          <a:xfrm>
            <a:off x="4207320" y="304920"/>
            <a:ext cx="293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a0aff"/>
                </a:solidFill>
                <a:latin typeface="Times New Roman"/>
              </a:rPr>
              <a:t>Main Events</a:t>
            </a:r>
            <a:endParaRPr b="0" lang="en-US" sz="4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ounded Rectangle 16"/>
          <p:cNvSpPr/>
          <p:nvPr/>
        </p:nvSpPr>
        <p:spPr>
          <a:xfrm>
            <a:off x="7086600" y="7086600"/>
            <a:ext cx="4343400" cy="1447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5181480" y="514188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7162920" y="1447920"/>
            <a:ext cx="3124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3.4 GeV, 12.5 deg (5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2.3 GeV, 12.5 deg (5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3.4 GeV, 6 deg (5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2.3 GeV, 6 deg (5T, 2.5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.7 GeV, 6 deg (2.5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1.2 GeV, 6 deg (2.5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5943600" y="4267080"/>
            <a:ext cx="54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halkboard"/>
              </a:rPr>
              <a:t>Lower target field from 5T to 2.5T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halkboard"/>
              </a:rPr>
              <a:t>for three lowest energy settings  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117360" y="304920"/>
            <a:ext cx="113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    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Kinematic Settings</a:t>
            </a:r>
            <a:endParaRPr b="0" lang="en-US" sz="40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224" name="Picture 9" descr="kin_cuts.png"/>
          <p:cNvPicPr/>
          <p:nvPr/>
        </p:nvPicPr>
        <p:blipFill>
          <a:blip r:embed="rId1"/>
          <a:srcRect l="-1314" t="12983" r="7700" b="6544"/>
          <a:stretch/>
        </p:blipFill>
        <p:spPr>
          <a:xfrm>
            <a:off x="380880" y="1295280"/>
            <a:ext cx="5029200" cy="43912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0"/>
          <p:cNvSpPr/>
          <p:nvPr/>
        </p:nvSpPr>
        <p:spPr>
          <a:xfrm>
            <a:off x="1235520" y="6248520"/>
            <a:ext cx="84499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wo configurations: with septa (6 degree)  (target at 87 cm upstream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nd without septa (12.5 degrees) (target at original pivot)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halkboard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halkboard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: target at 90 degrees for all and 0 degree for 3.4 GeV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halkboard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halkboard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: target at </a:t>
            </a: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degre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halkboard"/>
              </a:rPr>
              <a:t>7 degrees</a:t>
            </a: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26" name="Rounded Rectangle 10"/>
          <p:cNvSpPr/>
          <p:nvPr/>
        </p:nvSpPr>
        <p:spPr>
          <a:xfrm>
            <a:off x="7010280" y="1447920"/>
            <a:ext cx="3124440" cy="2286000"/>
          </a:xfrm>
          <a:prstGeom prst="roundRect">
            <a:avLst>
              <a:gd name="adj" fmla="val 15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27" name="Rounded Rectangle 12"/>
          <p:cNvSpPr/>
          <p:nvPr/>
        </p:nvSpPr>
        <p:spPr>
          <a:xfrm>
            <a:off x="7010280" y="1371600"/>
            <a:ext cx="3200400" cy="2590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28" name="Straight Connector 14"/>
          <p:cNvSpPr/>
          <p:nvPr/>
        </p:nvSpPr>
        <p:spPr>
          <a:xfrm>
            <a:off x="7238880" y="1523880"/>
            <a:ext cx="2590920" cy="6098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29" name="Straight Connector 16"/>
          <p:cNvSpPr/>
          <p:nvPr/>
        </p:nvSpPr>
        <p:spPr>
          <a:xfrm flipV="1">
            <a:off x="7162920" y="1523880"/>
            <a:ext cx="2666880" cy="6098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30" name="Straight Connector 20"/>
          <p:cNvSpPr/>
          <p:nvPr/>
        </p:nvSpPr>
        <p:spPr>
          <a:xfrm>
            <a:off x="1523880" y="6781680"/>
            <a:ext cx="64771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ounded Rectangle 16"/>
          <p:cNvSpPr/>
          <p:nvPr/>
        </p:nvSpPr>
        <p:spPr>
          <a:xfrm>
            <a:off x="7086600" y="7086600"/>
            <a:ext cx="4343400" cy="1447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181480" y="514188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33" name="TextBox 9"/>
          <p:cNvSpPr/>
          <p:nvPr/>
        </p:nvSpPr>
        <p:spPr>
          <a:xfrm>
            <a:off x="685800" y="838080"/>
            <a:ext cx="1051560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rget Progress (C. Keith and target team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Hall B magnet adapted to the target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Ready for installation      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Target material irriadiation at NIST: did once, 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  <a:ea typeface="ＭＳ Ｐゴシック"/>
              </a:rPr>
              <a:t>nd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next week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Cold-down tests twice at UVa, polarization @ 2.5T  ~25%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 with Beam Line System (T. Michalski and beamline team)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Design completed, all components installed/test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Most components commission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4-ch new BPM readout, work remaining (software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Superharp: has a soluti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Beam exit pipe (vacuum force): being worked on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Chicane; to be commission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halkboar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 in Hall A (R. Wines/E. Folts/A team, Slifer/g2p team)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Platform/structure ready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Septum/HRS/detectors/DAQ commissioned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3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  <a:ea typeface="ＭＳ Ｐゴシック"/>
              </a:rPr>
              <a:t>rd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arm commissioned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Moller commissioned      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Initial optics 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ＭＳ Ｐゴシック"/>
              </a:rPr>
              <a:t>Local dump</a:t>
            </a:r>
            <a:endParaRPr b="0" lang="en-US" sz="2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34" name="TextBox 10"/>
          <p:cNvSpPr/>
          <p:nvPr/>
        </p:nvSpPr>
        <p:spPr>
          <a:xfrm>
            <a:off x="3368160" y="0"/>
            <a:ext cx="483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verview of Progress</a:t>
            </a:r>
            <a:endParaRPr b="0" lang="en-US" sz="40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8T03:02:12Z</dcterms:created>
  <dc:creator/>
  <dc:description/>
  <cp:keywords/>
  <dc:language>en-US</dc:language>
  <cp:lastModifiedBy>jpchen</cp:lastModifiedBy>
  <cp:lastPrinted>2008-10-12T21:33:01Z</cp:lastPrinted>
  <dcterms:modified xsi:type="dcterms:W3CDTF">2012-01-10T23:31:24Z</dcterms:modified>
  <cp:revision>804</cp:revision>
  <dc:subject/>
  <dc:title>g2p</dc:title>
</cp:coreProperties>
</file>