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1430000" cy="8686800"/>
  <p:notesSz cx="10058400" cy="777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74560" y="777600"/>
            <a:ext cx="350532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535040" y="3700080"/>
            <a:ext cx="6996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110040" y="582480"/>
            <a:ext cx="3838320" cy="2916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535040" y="3700080"/>
            <a:ext cx="6996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Header Placeholder 4"/>
          <p:cNvSpPr/>
          <p:nvPr/>
        </p:nvSpPr>
        <p:spPr>
          <a:xfrm>
            <a:off x="0" y="0"/>
            <a:ext cx="4359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7381800"/>
            <a:ext cx="4359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:/jlab work/HALL A/g2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5F6-4584-4803-A101-C1AD1731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58B-4BF2-463B-A078-402079AB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0DD-C870-482A-B52B-9367AF83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977-48DC-465C-90A2-22A271F8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EC6-9085-4D3B-831D-1CF94BF5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F285-4584-4348-8E6B-3363EA5A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DC6B-4736-403F-B663-CFBA12D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048-6674-49FB-B08D-0EFE662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445-BB95-4990-874D-627678A5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EEA-95BE-4C26-8389-413D08A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6F1-14F1-4AFC-B08E-1D7789B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A17-6A3A-4632-8D2F-6371CD6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81A-B8B8-4DFD-BF64-EBB1108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C7BF-0862-4CAD-9F6E-507502E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CE15-88BF-4073-B43F-7F634E3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BA7-470C-4135-B754-35B2990C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A5B2-7D4A-41DD-91F1-F9A6E6B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7DC0-6D9D-41F3-8F51-7B7DE404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4176-FA7B-42ED-8282-B2E38A87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A1F5-8F36-479F-91B8-7B03320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30A-D2DE-49BA-B312-DD554D40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25C4-3BEA-49E6-86AA-277A53F2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82B-E18C-4619-B814-1B08F32F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5196-723E-4073-A88F-6E4CE477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85D7-5425-4FB5-A963-9F8DFBF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0481-C627-4C16-85CB-8B4FB7C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C8C4-DD02-4191-9871-6558140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C0DC-68F5-47FE-9B87-562780B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3837-83B8-438E-A43C-15FD8C0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852C-E13F-47FB-A8C2-A290B59B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865-E714-46ED-A745-7E810BC1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E19-065D-427D-B271-F5F5DD02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DBC-F887-4425-98BD-66055BF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BB4-88EA-46D6-8D0D-DF83087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959-BA01-4DF0-BDB4-58C47AB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76B-F75E-4583-8C01-1997B8D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E85-5631-4432-836F-D132CA2EC03E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047-C3B7-4DB3-8273-6539A9BB5A64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424-EE6D-4598-8933-809B88FEB892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90920" y="2743200"/>
            <a:ext cx="6248160" cy="688320"/>
          </a:xfrm>
          <a:prstGeom prst="rect">
            <a:avLst/>
          </a:prstGeom>
          <a:solidFill>
            <a:srgbClr val="00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Introduction / Overview</a:t>
            </a:r>
            <a:endParaRPr b="0" lang="en-US" sz="3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752480" y="3657600"/>
            <a:ext cx="8425080" cy="17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                  </a:t>
            </a:r>
            <a:r>
              <a:rPr b="0" lang="en-US" sz="3800" spc="-1" strike="noStrike">
                <a:solidFill>
                  <a:srgbClr val="0000ff"/>
                </a:solidFill>
                <a:latin typeface="Chalkboard"/>
              </a:rPr>
              <a:t>Jian-ping Chen</a:t>
            </a:r>
            <a:endParaRPr b="0" lang="en-US" sz="3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Chalkboard"/>
              </a:rPr>
              <a:t>2</a:t>
            </a:r>
            <a:r>
              <a:rPr b="0" lang="en-US" sz="2800" spc="-1" strike="noStrike" baseline="30000">
                <a:solidFill>
                  <a:srgbClr val="000066"/>
                </a:solidFill>
                <a:latin typeface="Chalkboard"/>
              </a:rPr>
              <a:t>p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/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Chalkboard"/>
              </a:rPr>
              <a:t>Ep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Readiness Review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    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1/17/2012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609480" y="1981080"/>
            <a:ext cx="105156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installation/testing: now to mid-Feb (2/15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missioning during or after target tests complet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Commissioning beamline/chicane/localdump/target/optic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unning from mid Feb to mid Ma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nough beam time at 2.2 and 3.4 GeV,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ut tight at 1.1 and 1.7 GeV due to constraints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from running together with Hall C and Hall B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2399400" y="53352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issioning and Run Plan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762120" y="1295280"/>
            <a:ext cx="105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get safety: (Chri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ollowing all safety considerations as in SANE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dditional controls in the target area (Ed/Chri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mline safety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SS system to include new changes (Chicane/target/dump) (Tim/Yves)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on chambers, viewers, thermal couples (dump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 consideration: (Pavel/Georg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C dump design (Al worked with Pave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DCON group calculations of radiation levels (George)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documents: (Al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SAD (draft) ready (pave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diation effects (Georg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SAD (draft read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SPs: mostly read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570320" y="228600"/>
            <a:ext cx="84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ety Considerations and Document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33520" y="1295280"/>
            <a:ext cx="1051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har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Goals/Requirem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arized Target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mlin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Structure / Beam Dump / Fiel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ometers / Detectors / DAQ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ty Considera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mber Commission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ation Status / Installation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ssion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Run Pla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810680" y="30492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070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7"/>
          <p:cNvSpPr/>
          <p:nvPr/>
        </p:nvSpPr>
        <p:spPr>
          <a:xfrm>
            <a:off x="2241360" y="152280"/>
            <a:ext cx="6817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08-027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Proto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ructure Function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04920" y="762120"/>
            <a:ext cx="111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undamental spin observable has never been measured at low or moderate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4" name="Rectangle 44"/>
          <p:cNvSpPr/>
          <p:nvPr/>
        </p:nvSpPr>
        <p:spPr>
          <a:xfrm>
            <a:off x="304920" y="1523880"/>
            <a:ext cx="1097280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BC Sum Rule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: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olation suggested for proton at large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ut found satisfied for the neutron &amp;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Lucida Grande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Spin Polarizability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: Major failure (&gt;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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T for neutr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.  Need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isosp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paration to solve.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Hydrogen HyperFine Splitting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: Lack of knowledge of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t low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is one of the leading uncertainties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Lucida Grande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Proton Charge Radius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so one of the leading uncertainties in extraction of &lt;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&gt;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 Lamb shift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1851120" y="12193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halkboard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Chalkboard"/>
              </a:rPr>
              <a:t>rating by PAC33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6" name="Text Box 6"/>
          <p:cNvSpPr/>
          <p:nvPr/>
        </p:nvSpPr>
        <p:spPr>
          <a:xfrm rot="16200000">
            <a:off x="20160" y="519516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C Sum Ru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37" name="Picture 26" descr="gam2"/>
          <p:cNvPicPr/>
          <p:nvPr/>
        </p:nvPicPr>
        <p:blipFill>
          <a:blip r:embed="rId1"/>
          <a:stretch/>
        </p:blipFill>
        <p:spPr>
          <a:xfrm>
            <a:off x="1066680" y="4495680"/>
            <a:ext cx="39625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0819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8" name="TextBox 14"/>
          <p:cNvSpPr/>
          <p:nvPr/>
        </p:nvSpPr>
        <p:spPr>
          <a:xfrm>
            <a:off x="5867280" y="1219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halkboard"/>
              </a:rPr>
              <a:t>A. Camsonne, J. P. Chen, D. Crabb, K. Slifer*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39" name="Picture 15" descr="dlt.gif"/>
          <p:cNvPicPr/>
          <p:nvPr/>
        </p:nvPicPr>
        <p:blipFill>
          <a:blip r:embed="rId2"/>
          <a:stretch/>
        </p:blipFill>
        <p:spPr>
          <a:xfrm>
            <a:off x="6197760" y="4508640"/>
            <a:ext cx="3949560" cy="3819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0819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0" name="Rectangle 17"/>
          <p:cNvSpPr/>
          <p:nvPr/>
        </p:nvSpPr>
        <p:spPr>
          <a:xfrm>
            <a:off x="228600" y="4005360"/>
            <a:ext cx="1112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omic Sans MS"/>
              </a:rPr>
              <a:t>g</a:t>
            </a:r>
            <a:r>
              <a:rPr b="0" lang="en-US" sz="16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c00000"/>
                </a:solidFill>
                <a:latin typeface="Comic Sans MS"/>
              </a:rPr>
              <a:t> data strongly anticipated by theorists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1" name="Text Box 6"/>
          <p:cNvSpPr/>
          <p:nvPr/>
        </p:nvSpPr>
        <p:spPr>
          <a:xfrm rot="16200000">
            <a:off x="4637880" y="5605920"/>
            <a:ext cx="27122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in Polarizabil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Group 5" descr=""/>
          <p:cNvPicPr/>
          <p:nvPr/>
        </p:nvPicPr>
        <p:blipFill>
          <a:blip r:embed="rId1"/>
          <a:stretch/>
        </p:blipFill>
        <p:spPr>
          <a:xfrm>
            <a:off x="1596960" y="2206800"/>
            <a:ext cx="8083440" cy="17254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1828800" y="152280"/>
            <a:ext cx="746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08-007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 Form Factor Ratio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/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M   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76000" y="1676520"/>
            <a:ext cx="9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asure asym in both HRS simultaneously and form the super-ratio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324480" y="4419720"/>
            <a:ext cx="5105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olve/refute possible structure in the FF at low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Freidrich and Walcher, 2003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cise knowledge of the FFs at low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critical for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GPDs in DVC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Strange FF from Parity Viol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definitive measurement of the Proton Zemach Radius and measurement of the charge radius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4267080"/>
            <a:ext cx="5978520" cy="39546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3124080" y="441972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2ff"/>
                </a:solidFill>
                <a:latin typeface="Chalkboard"/>
              </a:rPr>
              <a:t>Projected Uncertain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600200" y="838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. Ron*,  D. Higintbothan,  R. Gilman, J. Arrington,    A. Sarty,     D. Day 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609480" y="2286000"/>
            <a:ext cx="105156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(g2p experiment) : measure g2p with a precision ~ 5-7%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easuring transversely polarized cross section difference =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both asymmetries and cross sections to ~4-5%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total systematics to 3-5%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ach sub-system to 1-3%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(GEp): measure GEp with a precision to ~&lt;1%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easuring asymmetry ratio between left HRS and right H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systematics: target spin direction (0.1 degree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2 mr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 between L / R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good optics: HRS+septum+target fiel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87360" y="685800"/>
            <a:ext cx="84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erimental Goals/Requirement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1822320" y="6756480"/>
            <a:ext cx="223920" cy="9954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2"/>
          <p:cNvGrpSpPr/>
          <p:nvPr/>
        </p:nvGrpSpPr>
        <p:grpSpPr>
          <a:xfrm>
            <a:off x="0" y="4343400"/>
            <a:ext cx="11236320" cy="3691080"/>
            <a:chOff x="0" y="4343400"/>
            <a:chExt cx="11236320" cy="3691080"/>
          </a:xfrm>
        </p:grpSpPr>
        <p:pic>
          <p:nvPicPr>
            <p:cNvPr id="15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4474800"/>
              <a:ext cx="1751760" cy="35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3"/>
            <a:stretch/>
          </p:blipFill>
          <p:spPr>
            <a:xfrm>
              <a:off x="2484000" y="4343400"/>
              <a:ext cx="3863880" cy="36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4"/>
            <a:stretch/>
          </p:blipFill>
          <p:spPr>
            <a:xfrm>
              <a:off x="2145960" y="5923080"/>
              <a:ext cx="3661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"/>
            <p:cNvPicPr/>
            <p:nvPr/>
          </p:nvPicPr>
          <p:blipFill>
            <a:blip r:embed="rId5"/>
            <a:stretch/>
          </p:blipFill>
          <p:spPr>
            <a:xfrm>
              <a:off x="8425800" y="5725440"/>
              <a:ext cx="6465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7"/>
            <p:cNvSpPr/>
            <p:nvPr/>
          </p:nvSpPr>
          <p:spPr>
            <a:xfrm>
              <a:off x="1749240" y="6054840"/>
              <a:ext cx="379080" cy="689040"/>
            </a:xfrm>
            <a:prstGeom prst="rect">
              <a:avLst/>
            </a:prstGeom>
            <a:solidFill>
              <a:srgbClr val="6666ff"/>
            </a:solidFill>
            <a:ln w="25560">
              <a:solidFill>
                <a:srgbClr val="49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6360" rIns="216360" tIns="108360" bIns="10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halkboard"/>
              </a:endParaRPr>
            </a:p>
          </p:txBody>
        </p:sp>
        <p:pic>
          <p:nvPicPr>
            <p:cNvPr id="160" name="Picture 3" descr=""/>
            <p:cNvPicPr/>
            <p:nvPr/>
          </p:nvPicPr>
          <p:blipFill>
            <a:blip r:embed="rId6"/>
            <a:stretch/>
          </p:blipFill>
          <p:spPr>
            <a:xfrm>
              <a:off x="6378840" y="6186240"/>
              <a:ext cx="608760" cy="162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"/>
            <p:cNvPicPr/>
            <p:nvPr/>
          </p:nvPicPr>
          <p:blipFill>
            <a:blip r:embed="rId7"/>
            <a:stretch/>
          </p:blipFill>
          <p:spPr>
            <a:xfrm>
              <a:off x="7253280" y="6437520"/>
              <a:ext cx="516600" cy="12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Straight Connector 19"/>
            <p:cNvSpPr/>
            <p:nvPr/>
          </p:nvSpPr>
          <p:spPr>
            <a:xfrm flipV="1">
              <a:off x="6310440" y="7726320"/>
              <a:ext cx="4925880" cy="6120"/>
            </a:xfrm>
            <a:prstGeom prst="line">
              <a:avLst/>
            </a:prstGeom>
            <a:ln w="9360">
              <a:solidFill>
                <a:srgbClr val="606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halkboard"/>
              </a:endParaRPr>
            </a:p>
          </p:txBody>
        </p:sp>
      </p:grpSp>
      <p:sp>
        <p:nvSpPr>
          <p:cNvPr id="163" name="Straight Connector 13"/>
          <p:cNvSpPr/>
          <p:nvPr/>
        </p:nvSpPr>
        <p:spPr>
          <a:xfrm>
            <a:off x="6334200" y="6967440"/>
            <a:ext cx="0" cy="149544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4" name="Straight Connector 15"/>
          <p:cNvSpPr/>
          <p:nvPr/>
        </p:nvSpPr>
        <p:spPr>
          <a:xfrm>
            <a:off x="8390880" y="7174080"/>
            <a:ext cx="11160" cy="131112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5" name="Straight Connector 25"/>
          <p:cNvSpPr/>
          <p:nvPr/>
        </p:nvSpPr>
        <p:spPr>
          <a:xfrm>
            <a:off x="262080" y="7797960"/>
            <a:ext cx="0" cy="59184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714240" y="8001000"/>
            <a:ext cx="1024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1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3819600" y="8026560"/>
            <a:ext cx="1071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2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6957360" y="8026560"/>
            <a:ext cx="1002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3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9" name="Straight Connector 34"/>
          <p:cNvSpPr/>
          <p:nvPr/>
        </p:nvSpPr>
        <p:spPr>
          <a:xfrm>
            <a:off x="2519280" y="7118280"/>
            <a:ext cx="0" cy="131616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0" name="Straight Connector 36"/>
          <p:cNvSpPr/>
          <p:nvPr/>
        </p:nvSpPr>
        <p:spPr>
          <a:xfrm>
            <a:off x="9144000" y="7174080"/>
            <a:ext cx="9360" cy="133956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71" name="Straight Arrow Connector 39"/>
          <p:cNvCxnSpPr/>
          <p:nvPr/>
        </p:nvCxnSpPr>
        <p:spPr>
          <a:xfrm>
            <a:off x="8715240" y="6251400"/>
            <a:ext cx="929520" cy="88992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172" name="Straight Arrow Connector 41"/>
          <p:cNvCxnSpPr/>
          <p:nvPr/>
        </p:nvCxnSpPr>
        <p:spPr>
          <a:xfrm>
            <a:off x="8715240" y="6251040"/>
            <a:ext cx="929520" cy="65988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173" name="Straight Arrow Connector 43"/>
          <p:cNvCxnSpPr/>
          <p:nvPr/>
        </p:nvCxnSpPr>
        <p:spPr>
          <a:xfrm>
            <a:off x="8691480" y="6251040"/>
            <a:ext cx="977040" cy="56124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74" name="TextBox 47"/>
          <p:cNvSpPr/>
          <p:nvPr/>
        </p:nvSpPr>
        <p:spPr>
          <a:xfrm>
            <a:off x="8445600" y="8039160"/>
            <a:ext cx="842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 4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5" name="TextBox 48"/>
          <p:cNvSpPr/>
          <p:nvPr/>
        </p:nvSpPr>
        <p:spPr>
          <a:xfrm flipH="1">
            <a:off x="9810720" y="8047080"/>
            <a:ext cx="1014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5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6" name="Straight Connector 60"/>
          <p:cNvSpPr/>
          <p:nvPr/>
        </p:nvSpPr>
        <p:spPr>
          <a:xfrm>
            <a:off x="6953400" y="6481800"/>
            <a:ext cx="571320" cy="2635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7" name="Straight Connector 62"/>
          <p:cNvSpPr/>
          <p:nvPr/>
        </p:nvSpPr>
        <p:spPr>
          <a:xfrm flipV="1">
            <a:off x="7524720" y="6349680"/>
            <a:ext cx="880920" cy="46188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8" name="TextBox 64"/>
          <p:cNvSpPr/>
          <p:nvPr/>
        </p:nvSpPr>
        <p:spPr>
          <a:xfrm>
            <a:off x="1738440" y="5527800"/>
            <a:ext cx="1547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ow Ra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4419720" y="4800600"/>
            <a:ext cx="1552320" cy="7891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Z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xedSta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0" name="Shape 70"/>
          <p:cNvCxnSpPr>
            <a:stCxn id="179" idx="3"/>
          </p:cNvCxnSpPr>
          <p:nvPr/>
        </p:nvCxnSpPr>
        <p:spPr>
          <a:xfrm>
            <a:off x="5971680" y="5195880"/>
            <a:ext cx="691560" cy="1085040"/>
          </a:xfrm>
          <a:prstGeom prst="bentConnector2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81" name="Rectangle 71"/>
          <p:cNvSpPr/>
          <p:nvPr/>
        </p:nvSpPr>
        <p:spPr>
          <a:xfrm>
            <a:off x="7238880" y="4648320"/>
            <a:ext cx="2928960" cy="6253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Z2 Telescoping Sta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2" name="Elbow Connector 73"/>
          <p:cNvCxnSpPr/>
          <p:nvPr/>
        </p:nvCxnSpPr>
        <p:spPr>
          <a:xfrm flipH="1" rot="16200000">
            <a:off x="6703560" y="5729760"/>
            <a:ext cx="1497960" cy="238680"/>
          </a:xfrm>
          <a:prstGeom prst="bentConnector3">
            <a:avLst>
              <a:gd name="adj1" fmla="val 50000"/>
            </a:avLst>
          </a:prstGeom>
          <a:ln w="25560">
            <a:solidFill>
              <a:srgbClr val="6060fd"/>
            </a:solidFill>
            <a:miter/>
            <a:tailEnd len="med" type="triangle" w="med"/>
          </a:ln>
        </p:spPr>
      </p:cxnSp>
      <p:pic>
        <p:nvPicPr>
          <p:cNvPr id="183" name="Picture 6" descr=""/>
          <p:cNvPicPr/>
          <p:nvPr/>
        </p:nvPicPr>
        <p:blipFill>
          <a:blip r:embed="rId8"/>
          <a:stretch/>
        </p:blipFill>
        <p:spPr>
          <a:xfrm>
            <a:off x="6388200" y="6566040"/>
            <a:ext cx="744480" cy="117612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81"/>
          <p:cNvSpPr/>
          <p:nvPr/>
        </p:nvSpPr>
        <p:spPr>
          <a:xfrm>
            <a:off x="6632640" y="6818400"/>
            <a:ext cx="311040" cy="684000"/>
          </a:xfrm>
          <a:custGeom>
            <a:avLst/>
            <a:gdLst/>
            <a:ahLst/>
            <a:rect l="l" t="t" r="r" b="b"/>
            <a:pathLst>
              <a:path w="996286" h="1583140">
                <a:moveTo>
                  <a:pt x="327546" y="0"/>
                </a:moveTo>
                <a:lnTo>
                  <a:pt x="327546" y="0"/>
                </a:lnTo>
                <a:cubicBezTo>
                  <a:pt x="363940" y="22746"/>
                  <a:pt x="399051" y="47688"/>
                  <a:pt x="436728" y="68239"/>
                </a:cubicBezTo>
                <a:cubicBezTo>
                  <a:pt x="449357" y="75128"/>
                  <a:pt x="464804" y="75453"/>
                  <a:pt x="477671" y="81886"/>
                </a:cubicBezTo>
                <a:cubicBezTo>
                  <a:pt x="492342" y="89222"/>
                  <a:pt x="504550" y="100743"/>
                  <a:pt x="518615" y="109182"/>
                </a:cubicBezTo>
                <a:cubicBezTo>
                  <a:pt x="527338" y="114416"/>
                  <a:pt x="536812" y="118281"/>
                  <a:pt x="545910" y="122830"/>
                </a:cubicBezTo>
                <a:lnTo>
                  <a:pt x="641444" y="232012"/>
                </a:lnTo>
                <a:lnTo>
                  <a:pt x="955343" y="518615"/>
                </a:lnTo>
                <a:lnTo>
                  <a:pt x="996286" y="614149"/>
                </a:lnTo>
                <a:lnTo>
                  <a:pt x="996286" y="1583140"/>
                </a:lnTo>
                <a:lnTo>
                  <a:pt x="0" y="1528549"/>
                </a:lnTo>
                <a:lnTo>
                  <a:pt x="327546" y="0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5" name="Freeform 86"/>
          <p:cNvSpPr/>
          <p:nvPr/>
        </p:nvSpPr>
        <p:spPr>
          <a:xfrm>
            <a:off x="6286680" y="6488280"/>
            <a:ext cx="492120" cy="380880"/>
          </a:xfrm>
          <a:custGeom>
            <a:avLst/>
            <a:gdLst/>
            <a:ahLst/>
            <a:rect l="l" t="t" r="r" b="b"/>
            <a:pathLst>
              <a:path w="1576552" h="882869">
                <a:moveTo>
                  <a:pt x="0" y="47296"/>
                </a:moveTo>
                <a:lnTo>
                  <a:pt x="15766" y="882869"/>
                </a:lnTo>
                <a:lnTo>
                  <a:pt x="1576552" y="835572"/>
                </a:lnTo>
                <a:lnTo>
                  <a:pt x="1324303" y="536028"/>
                </a:lnTo>
                <a:lnTo>
                  <a:pt x="362607" y="520262"/>
                </a:lnTo>
                <a:lnTo>
                  <a:pt x="268014" y="0"/>
                </a:lnTo>
                <a:lnTo>
                  <a:pt x="0" y="47296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6" name="Freeform 89"/>
          <p:cNvSpPr/>
          <p:nvPr/>
        </p:nvSpPr>
        <p:spPr>
          <a:xfrm>
            <a:off x="7062840" y="6827760"/>
            <a:ext cx="93600" cy="887400"/>
          </a:xfrm>
          <a:custGeom>
            <a:avLst/>
            <a:gdLst/>
            <a:ahLst/>
            <a:rect l="l" t="t" r="r" b="b"/>
            <a:pathLst>
              <a:path w="301924" h="2053087">
                <a:moveTo>
                  <a:pt x="0" y="51758"/>
                </a:moveTo>
                <a:lnTo>
                  <a:pt x="25879" y="2053087"/>
                </a:lnTo>
                <a:lnTo>
                  <a:pt x="301924" y="2035834"/>
                </a:lnTo>
                <a:lnTo>
                  <a:pt x="250166" y="0"/>
                </a:lnTo>
                <a:lnTo>
                  <a:pt x="0" y="51758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7" name="Rectangle 95"/>
          <p:cNvSpPr/>
          <p:nvPr/>
        </p:nvSpPr>
        <p:spPr>
          <a:xfrm>
            <a:off x="9906120" y="6858000"/>
            <a:ext cx="1000080" cy="5922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UMP</a:t>
            </a:r>
            <a:endParaRPr b="0" lang="en-US" sz="17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8" name="Straight Arrow Connector 99"/>
          <p:cNvCxnSpPr/>
          <p:nvPr/>
        </p:nvCxnSpPr>
        <p:spPr>
          <a:xfrm flipV="1">
            <a:off x="8229240" y="6629040"/>
            <a:ext cx="1080" cy="45792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triangle" w="med"/>
          </a:ln>
        </p:spPr>
      </p:cxnSp>
      <p:pic>
        <p:nvPicPr>
          <p:cNvPr id="189" name="Picture 8" descr=""/>
          <p:cNvPicPr/>
          <p:nvPr/>
        </p:nvPicPr>
        <p:blipFill>
          <a:blip r:embed="rId9"/>
          <a:stretch/>
        </p:blipFill>
        <p:spPr>
          <a:xfrm>
            <a:off x="2190600" y="6659640"/>
            <a:ext cx="244800" cy="10764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12"/>
          <p:cNvSpPr/>
          <p:nvPr/>
        </p:nvSpPr>
        <p:spPr>
          <a:xfrm>
            <a:off x="8458200" y="5715000"/>
            <a:ext cx="1176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1" name="Straight Connector 116"/>
          <p:cNvSpPr/>
          <p:nvPr/>
        </p:nvSpPr>
        <p:spPr>
          <a:xfrm>
            <a:off x="1928160" y="6811920"/>
            <a:ext cx="6120" cy="9399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2" name="Straight Connector 118"/>
          <p:cNvSpPr/>
          <p:nvPr/>
        </p:nvSpPr>
        <p:spPr>
          <a:xfrm>
            <a:off x="2320200" y="6748560"/>
            <a:ext cx="4680" cy="9396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3" name="Straight Connector 120"/>
          <p:cNvSpPr/>
          <p:nvPr/>
        </p:nvSpPr>
        <p:spPr>
          <a:xfrm>
            <a:off x="6429240" y="6647040"/>
            <a:ext cx="595440" cy="0"/>
          </a:xfrm>
          <a:prstGeom prst="line">
            <a:avLst/>
          </a:prstGeom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4" name="Straight Connector 123"/>
          <p:cNvSpPr/>
          <p:nvPr/>
        </p:nvSpPr>
        <p:spPr>
          <a:xfrm>
            <a:off x="7000920" y="6647040"/>
            <a:ext cx="0" cy="1085760"/>
          </a:xfrm>
          <a:prstGeom prst="line">
            <a:avLst/>
          </a:prstGeom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5" name="Straight Connector 125"/>
          <p:cNvSpPr/>
          <p:nvPr/>
        </p:nvSpPr>
        <p:spPr>
          <a:xfrm>
            <a:off x="7500240" y="7008840"/>
            <a:ext cx="11160" cy="72072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6" name="Straight Connector 128"/>
          <p:cNvSpPr/>
          <p:nvPr/>
        </p:nvSpPr>
        <p:spPr>
          <a:xfrm>
            <a:off x="6715080" y="6680160"/>
            <a:ext cx="285840" cy="3938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7" name="Rectangle 59"/>
          <p:cNvSpPr/>
          <p:nvPr/>
        </p:nvSpPr>
        <p:spPr>
          <a:xfrm>
            <a:off x="9601200" y="6553080"/>
            <a:ext cx="281160" cy="117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98" name="Straight Arrow Connector 79"/>
          <p:cNvCxnSpPr/>
          <p:nvPr/>
        </p:nvCxnSpPr>
        <p:spPr>
          <a:xfrm flipH="1" flipV="1">
            <a:off x="261720" y="8192880"/>
            <a:ext cx="45936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199" name="Straight Arrow Connector 82"/>
          <p:cNvCxnSpPr/>
          <p:nvPr/>
        </p:nvCxnSpPr>
        <p:spPr>
          <a:xfrm>
            <a:off x="1690200" y="8193240"/>
            <a:ext cx="81036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0" name="Straight Arrow Connector 85"/>
          <p:cNvCxnSpPr/>
          <p:nvPr/>
        </p:nvCxnSpPr>
        <p:spPr>
          <a:xfrm>
            <a:off x="4905000" y="8208720"/>
            <a:ext cx="138204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1" name="Straight Arrow Connector 87"/>
          <p:cNvCxnSpPr/>
          <p:nvPr/>
        </p:nvCxnSpPr>
        <p:spPr>
          <a:xfrm>
            <a:off x="7918560" y="8208720"/>
            <a:ext cx="45000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2" name="Straight Arrow Connector 100"/>
          <p:cNvCxnSpPr/>
          <p:nvPr/>
        </p:nvCxnSpPr>
        <p:spPr>
          <a:xfrm>
            <a:off x="10780200" y="8226000"/>
            <a:ext cx="500760" cy="108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3" name="Straight Arrow Connector 101"/>
          <p:cNvCxnSpPr/>
          <p:nvPr/>
        </p:nvCxnSpPr>
        <p:spPr>
          <a:xfrm flipH="1" flipV="1">
            <a:off x="2547360" y="8192520"/>
            <a:ext cx="1205640" cy="1332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4" name="Straight Arrow Connector 102"/>
          <p:cNvCxnSpPr/>
          <p:nvPr/>
        </p:nvCxnSpPr>
        <p:spPr>
          <a:xfrm flipH="1" flipV="1">
            <a:off x="6370200" y="8208360"/>
            <a:ext cx="57384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05" name="Straight Arrow Connector 103"/>
          <p:cNvCxnSpPr/>
          <p:nvPr/>
        </p:nvCxnSpPr>
        <p:spPr>
          <a:xfrm flipH="1">
            <a:off x="9170280" y="8217360"/>
            <a:ext cx="616680" cy="39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206" name="TextBox 66"/>
          <p:cNvSpPr/>
          <p:nvPr/>
        </p:nvSpPr>
        <p:spPr>
          <a:xfrm>
            <a:off x="380880" y="914400"/>
            <a:ext cx="632484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larized Solid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Target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rget material irradia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amlin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gnetic Chicane/Beamline modifications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w beam current BCM/BPMs, Slow Rast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ll A Engineering/Desig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al Beam Dum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ptum Magne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ll Infra-structure/Chamber/ Target/magnet mou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ectrometer/Detectors/QAD/Optic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larimetry/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r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207" name="Straight Arrow Connector 65"/>
          <p:cNvCxnSpPr/>
          <p:nvPr/>
        </p:nvCxnSpPr>
        <p:spPr>
          <a:xfrm flipH="1" flipV="1">
            <a:off x="7924680" y="6780960"/>
            <a:ext cx="76680" cy="38196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triangle" w="med"/>
          </a:ln>
        </p:spPr>
      </p:cxnSp>
      <p:sp>
        <p:nvSpPr>
          <p:cNvPr id="208" name="TextBox 69"/>
          <p:cNvSpPr/>
          <p:nvPr/>
        </p:nvSpPr>
        <p:spPr>
          <a:xfrm>
            <a:off x="7670520" y="716292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P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9" name="TextBox 63"/>
          <p:cNvSpPr/>
          <p:nvPr/>
        </p:nvSpPr>
        <p:spPr>
          <a:xfrm>
            <a:off x="6629400" y="1295280"/>
            <a:ext cx="44956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ll C target magnet fail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Using Hall B magne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c. commissioning (beamline/de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issioned most compon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ntified a few probl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143000" y="152280"/>
            <a:ext cx="9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                         </a:t>
            </a: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1" name="Rectangle 63"/>
          <p:cNvSpPr/>
          <p:nvPr/>
        </p:nvSpPr>
        <p:spPr>
          <a:xfrm>
            <a:off x="9906120" y="6172200"/>
            <a:ext cx="1304640" cy="5922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epta/HRS</a:t>
            </a:r>
            <a:endParaRPr b="0" lang="en-US" sz="17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2" name="TextBox 69"/>
          <p:cNvSpPr/>
          <p:nvPr/>
        </p:nvSpPr>
        <p:spPr>
          <a:xfrm>
            <a:off x="7453080" y="541008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213" name="Straight Arrow Connector 78"/>
          <p:cNvCxnSpPr>
            <a:stCxn id="212" idx="2"/>
          </p:cNvCxnSpPr>
          <p:nvPr/>
        </p:nvCxnSpPr>
        <p:spPr>
          <a:xfrm>
            <a:off x="7902360" y="5810400"/>
            <a:ext cx="99000" cy="59112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14" name="Straight Arrow Connector 80"/>
          <p:cNvCxnSpPr>
            <a:stCxn id="212" idx="1"/>
          </p:cNvCxnSpPr>
          <p:nvPr/>
        </p:nvCxnSpPr>
        <p:spPr>
          <a:xfrm flipH="1">
            <a:off x="6323760" y="5609880"/>
            <a:ext cx="1143720" cy="63900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33520" y="1295280"/>
            <a:ext cx="105156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arget magnet fail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all B magne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 of experiment (Mid-Feb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time for setpa-out ru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missioning in December with a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 foil targe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mline components mostly commission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BPM(SEE), BCM, Tungsten Calorimeter, Slow Raster, Moller, Viewer, PSS…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problems: being address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exit beam pipe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(mis-alignment due to vacuum for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superhar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RS/Septum/detectors/DAQ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m commission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cs: partially start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Not commissioned: 4Ch BPM readout (not ready in Dec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Polarized target, Chicane, Local dum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Main part optics (need sieve and target field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4207320" y="304920"/>
            <a:ext cx="293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Main Event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162920" y="1447920"/>
            <a:ext cx="3124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.4 GeV, 12.5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.3 GeV, 12.5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.4 GeV, 6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.3 GeV, 6 deg (5T, 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.7 GeV, 6 deg (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.2 GeV, 6 deg (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5943600" y="4267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halkboard"/>
              </a:rPr>
              <a:t>Lower target field from 5T to 2.5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halkboard"/>
              </a:rPr>
              <a:t>for three lowest energy settings 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117360" y="304920"/>
            <a:ext cx="11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inematic Setting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224" name="Picture 9" descr="kin_cuts.png"/>
          <p:cNvPicPr/>
          <p:nvPr/>
        </p:nvPicPr>
        <p:blipFill>
          <a:blip r:embed="rId1"/>
          <a:srcRect l="-1314" t="12983" r="7700" b="6544"/>
          <a:stretch/>
        </p:blipFill>
        <p:spPr>
          <a:xfrm>
            <a:off x="380880" y="1295280"/>
            <a:ext cx="5029200" cy="4391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0"/>
          <p:cNvSpPr/>
          <p:nvPr/>
        </p:nvSpPr>
        <p:spPr>
          <a:xfrm>
            <a:off x="1235520" y="6248520"/>
            <a:ext cx="84499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configurations: with septa (6 degree)  (target at 87 cm upstream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without septa (12.5 degrees) (target at original pivo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: target at 90 degrees for all and 0 degree for 3.4 GeV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: target at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egre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7 degre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6" name="Rounded Rectangle 10"/>
          <p:cNvSpPr/>
          <p:nvPr/>
        </p:nvSpPr>
        <p:spPr>
          <a:xfrm>
            <a:off x="7010280" y="1447920"/>
            <a:ext cx="3124440" cy="2286000"/>
          </a:xfrm>
          <a:prstGeom prst="roundRect">
            <a:avLst>
              <a:gd name="adj" fmla="val 1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7" name="Rounded Rectangle 12"/>
          <p:cNvSpPr/>
          <p:nvPr/>
        </p:nvSpPr>
        <p:spPr>
          <a:xfrm>
            <a:off x="7010280" y="1371600"/>
            <a:ext cx="3200400" cy="25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8" name="Straight Connector 14"/>
          <p:cNvSpPr/>
          <p:nvPr/>
        </p:nvSpPr>
        <p:spPr>
          <a:xfrm>
            <a:off x="7238880" y="1523880"/>
            <a:ext cx="2590920" cy="609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9" name="Straight Connector 16"/>
          <p:cNvSpPr/>
          <p:nvPr/>
        </p:nvSpPr>
        <p:spPr>
          <a:xfrm flipV="1">
            <a:off x="7162920" y="1523880"/>
            <a:ext cx="2666880" cy="609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0" name="Straight Connector 20"/>
          <p:cNvSpPr/>
          <p:nvPr/>
        </p:nvSpPr>
        <p:spPr>
          <a:xfrm>
            <a:off x="1523880" y="6781680"/>
            <a:ext cx="64771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685800" y="838080"/>
            <a:ext cx="1051560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get Progress (C. Keith and target tea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Hall B magnet adapted to the targ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Ready for installation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Target material irriadiation at NIST: did once,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next wee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old-down tests twice at UVa, polarization @ 2.5T  ~25%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with Beam Line System (T. Michalski and beamline team)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Design completed, all components installed/tes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Most components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4-ch new BPM readout, work remaining (softwar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Superharp: has a solu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Beam exit pipe (vacuum force): being worked 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hicane; to be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in Hall A (R. Wines/E. Folts/A team, Slifer/g2p tea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Platform/structure read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Septum/HRS/detectors/DAQ commissione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  <a:ea typeface="ＭＳ Ｐゴシック"/>
              </a:rPr>
              <a:t>r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arm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Moller commissioned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Initial optic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Local dum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3368160" y="0"/>
            <a:ext cx="48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of Progres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3:02:12Z</dcterms:created>
  <dc:creator/>
  <dc:description/>
  <cp:keywords/>
  <dc:language>en-US</dc:language>
  <cp:lastModifiedBy>jpchen</cp:lastModifiedBy>
  <cp:lastPrinted>2008-10-12T21:33:01Z</cp:lastPrinted>
  <dcterms:modified xsi:type="dcterms:W3CDTF">2012-01-10T23:31:24Z</dcterms:modified>
  <cp:revision>804</cp:revision>
  <dc:subject/>
  <dc:title>g2p</dc:title>
</cp:coreProperties>
</file>