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F65A-3853-4D1D-B258-3E3E44861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6828-4068-485C-9515-D01B3266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3CAF-9717-42F7-9F70-E4379B06D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0C98-65E4-4527-8D9E-8C445BDAC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0BAC-FC3F-4F6E-B23E-D87D37B3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C1B9-16E6-4F8D-B248-4A6A3291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4262-5388-47C6-97AC-F3E945A0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27D5-0849-417A-A0E5-B182C931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546B-2200-414F-8974-9FBDE48B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1200-7CF0-4BBF-B405-A658BD79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26A3-DC35-4A47-B8EC-A260853A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C3B0-7A44-4D44-8FD4-DAFFCC66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4B0554-8F14-4F4F-A7A2-78366C794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6160" y="193680"/>
            <a:ext cx="459720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2p Third Arm Det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87280" y="905040"/>
            <a:ext cx="442584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me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ve area of about 12x24 inch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scintillator padd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ctor mounted on the left side of the platfo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ctor was successfully commissioned in Dec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esholds were optimiz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d channels were fix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mm Al shielding wa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Feb Ru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rated plastic will be used to shield neutron flux from local du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P to access to the detector – same restrictions as that of platform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ce commissioned, need to access the detector will be minimal (i.e, only if something brea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979880" y="254160"/>
            <a:ext cx="4886280" cy="3657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029200" y="4114800"/>
            <a:ext cx="4870440" cy="314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22:45:40Z</dcterms:created>
  <dc:creator>Kalyan Allada</dc:creator>
  <dc:description/>
  <dc:language>en-US</dc:language>
  <cp:lastModifiedBy>Kalyan Allada</cp:lastModifiedBy>
  <dcterms:modified xsi:type="dcterms:W3CDTF">2012-01-10T23:24:10Z</dcterms:modified>
  <cp:revision>25</cp:revision>
  <dc:subject/>
  <dc:title/>
</cp:coreProperties>
</file>